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40B-394F-43FE-8AFF-095AADA6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E34-26F0-4B58-8AA3-0A53C6CB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DF8-1301-4D4F-8092-9DB855A0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09C-33C0-481A-B32F-8D7405D2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AA1-B4A7-424A-BC52-21E7FA8C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146-5F11-4F5A-BC40-4012FF27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A7E-2BBC-4179-BE9A-2E138A35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19D-7E1B-47DF-BEF4-9FF61B3C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9A9-36AF-45D3-97EE-F42094FE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F47-9C96-404D-BFB2-23793CDC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0FB-777F-4D99-A0F9-FCA2FAAC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4FA-888F-4DC5-A239-AF67051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82AE-03AF-443C-85DD-F4CB63A89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arch for HF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brain activity is usually below 40 Hertz and certainly below 100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ooking for activity at several hundred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44600" y="-450720"/>
            <a:ext cx="10033200" cy="77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, Problems,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a time-varying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, noise,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6 Channels - Which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r @ 1KHz = 1 Billion data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ing window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urier transform is O(N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something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ie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time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Short-time FT ( aka RFF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53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74720" y="-355680"/>
            <a:ext cx="10693440" cy="75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774720" y="-355680"/>
            <a:ext cx="10693440" cy="75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Macintosh HD:Users:bill:Desktop:Documents:Talks:Yale-09:Second.avi" descr=""/>
          <p:cNvPicPr/>
          <p:nvPr/>
        </p:nvPicPr>
        <p:blipFill>
          <a:blip r:embed="rId1"/>
          <a:stretch/>
        </p:blipFill>
        <p:spPr>
          <a:xfrm>
            <a:off x="-482760" y="9360"/>
            <a:ext cx="101602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20:57:44Z</dcterms:created>
  <dc:creator>bill</dc:creator>
  <dc:description/>
  <dc:language>en-US</dc:language>
  <cp:lastModifiedBy>bill</cp:lastModifiedBy>
  <dcterms:modified xsi:type="dcterms:W3CDTF">2009-05-15T14:08:26Z</dcterms:modified>
  <cp:revision>12</cp:revision>
  <dc:subject/>
  <dc:title>The Search for HFOs</dc:title>
</cp:coreProperties>
</file>