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9.png" ContentType="image/png"/>
  <Override PartName="/ppt/media/image14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5.wmf" ContentType="image/x-wmf"/>
  <Override PartName="/ppt/media/image42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5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588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10840" y="650520"/>
            <a:ext cx="4281480" cy="32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588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56A0E0E-579B-4E46-8732-40EAB154FA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1873B5-4E7D-4486-83FF-DAFB170D93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20B676-39E5-42E1-8430-000791DA52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25E3E3-0B0F-441F-A6C5-A8FF452461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AD58FA-6B3D-4468-8133-AED1B80748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837F55-DA22-4362-ABA4-9BAABF5AA9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9B07AA-279F-4471-8938-4B6877578F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56F58A-548B-4BEE-94C1-D8018E42C6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CD88BB-5243-4BE2-B59C-4084B3F6E4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2F53A5-2B74-4749-9713-4F2019A095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2AD61D-7C5C-412E-80DF-561E4B6C47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5869BE-8C81-478E-9803-C856D1650D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71EE1F-ED07-48F7-8C5B-C87B49556F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92A84B-0B33-4235-AFBD-4E46887EA2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32477A-D6A1-4175-99A8-0D11D18C75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2BCEC3-EE4A-4A08-94B3-5D3DD6D948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7C973B-2B21-4A11-BD1B-80C452BEDC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D5F48D-0030-4AD0-B6C7-8D8FB66721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478101-DCEC-4C0F-8D85-BAAAF4C121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A69C48-4C1B-4591-9A69-0D31ADF12E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F68E86-F7AF-435A-A112-E6396C7B8F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DF5-C28A-4EED-9657-577846D2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57A-DC96-4087-B953-082D9156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422-7A2F-472C-B60A-A09CEC9C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638-E999-46C5-8067-B575E2F6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807-F4A2-437D-B45A-402068CD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132-DB5A-4858-ADD8-4EEC7E83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786-AEBA-45E0-A05D-3429BBD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1E7-E8A4-42AE-8E16-6B925ED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2D1-1B98-4C21-9293-6E94E4C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B2A-69CE-48B5-8C55-426EEA1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702-828E-4B6B-8F63-0E8590C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B57-4431-49B8-94FE-04D20AA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1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igan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C3C1-2A49-4B83-A48C-B4FA3B07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28880" y="723960"/>
            <a:ext cx="73152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John Hartigan’s contributions to clus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nd some exten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Stuetzl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0DF-3DDD-480F-9E99-73E10934C5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749160"/>
            <a:ext cx="55119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5120" y="749160"/>
            <a:ext cx="8475840" cy="481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90A-7E81-4648-9B5D-165371507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73000" y="660240"/>
            <a:ext cx="45277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73000" y="284040"/>
            <a:ext cx="7863120" cy="703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669-D0DF-47E5-AF97-43920A46DC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F2C-82BE-41B4-9358-2B5964BF2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txp_fig"/>
          <p:cNvPicPr/>
          <p:nvPr/>
        </p:nvPicPr>
        <p:blipFill>
          <a:blip r:embed="rId3"/>
          <a:stretch/>
        </p:blipFill>
        <p:spPr>
          <a:xfrm>
            <a:off x="830160" y="531720"/>
            <a:ext cx="7480440" cy="57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B2A-2030-4ED0-AE2E-F5F92D650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6F4-F8E7-4695-8D4C-73036122B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xp_fig"/>
          <p:cNvPicPr/>
          <p:nvPr/>
        </p:nvPicPr>
        <p:blipFill>
          <a:blip r:embed="rId3"/>
          <a:stretch/>
        </p:blipFill>
        <p:spPr>
          <a:xfrm>
            <a:off x="830160" y="696960"/>
            <a:ext cx="7480440" cy="44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3E3-0162-4939-999D-C09905418F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33AE-ABE0-4BC8-95DC-C859C51E1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0"/>
          <p:cNvGrpSpPr/>
          <p:nvPr/>
        </p:nvGrpSpPr>
        <p:grpSpPr>
          <a:xfrm>
            <a:off x="685800" y="673200"/>
            <a:ext cx="7954560" cy="2195280"/>
            <a:chOff x="685800" y="673200"/>
            <a:chExt cx="7954560" cy="2195280"/>
          </a:xfrm>
        </p:grpSpPr>
        <p:pic>
          <p:nvPicPr>
            <p:cNvPr id="109" name="Picture 16" descr=""/>
            <p:cNvPicPr/>
            <p:nvPr/>
          </p:nvPicPr>
          <p:blipFill>
            <a:blip r:embed="rId3"/>
            <a:stretch/>
          </p:blipFill>
          <p:spPr>
            <a:xfrm>
              <a:off x="3328920" y="673200"/>
              <a:ext cx="531144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5800" y="673200"/>
              <a:ext cx="2493720" cy="20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txp_fig"/>
          <p:cNvPicPr/>
          <p:nvPr/>
        </p:nvPicPr>
        <p:blipFill>
          <a:blip r:embed="rId5"/>
          <a:stretch/>
        </p:blipFill>
        <p:spPr>
          <a:xfrm>
            <a:off x="779400" y="3171960"/>
            <a:ext cx="7580520" cy="26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E2B-C91E-4C1B-81FA-6B7E11833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B9DB-61D6-4BFD-A8F7-CF06D0807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txp_fig"/>
          <p:cNvPicPr/>
          <p:nvPr/>
        </p:nvPicPr>
        <p:blipFill>
          <a:blip r:embed="rId3"/>
          <a:stretch/>
        </p:blipFill>
        <p:spPr>
          <a:xfrm>
            <a:off x="768240" y="708120"/>
            <a:ext cx="7604280" cy="41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B1C-8A17-4438-AA51-7B4BAF2775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58528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766-F51F-48FE-AE06-3117E7C74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636040" cy="489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484-80B1-4BDB-99A2-E5C28BB604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522360"/>
            <a:ext cx="858384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E7C-FB33-4D05-8FA1-056E16AB8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951C-C079-45E2-829A-BD5A833BE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txp_fig"/>
          <p:cNvPicPr/>
          <p:nvPr/>
        </p:nvPicPr>
        <p:blipFill>
          <a:blip r:embed="rId3"/>
          <a:stretch/>
        </p:blipFill>
        <p:spPr>
          <a:xfrm>
            <a:off x="787320" y="666720"/>
            <a:ext cx="7597800" cy="43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1A9-F683-495F-80AD-1286CCE52F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690480" y="4371840"/>
            <a:ext cx="7565760" cy="1876320"/>
            <a:chOff x="690480" y="4371840"/>
            <a:chExt cx="7565760" cy="187632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690480" y="4371840"/>
              <a:ext cx="17319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267624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3"/>
            <a:stretch/>
          </p:blipFill>
          <p:spPr>
            <a:xfrm>
              <a:off x="461628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4"/>
            <a:stretch/>
          </p:blipFill>
          <p:spPr>
            <a:xfrm>
              <a:off x="6557760" y="4419360"/>
              <a:ext cx="169848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Edittex"/>
          <p:cNvPicPr/>
          <p:nvPr/>
        </p:nvPicPr>
        <p:blipFill>
          <a:blip r:embed="rId5"/>
          <a:stretch/>
        </p:blipFill>
        <p:spPr>
          <a:xfrm>
            <a:off x="722160" y="493560"/>
            <a:ext cx="773604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AFA-7A56-44D5-A38E-58ACC4E8B1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C9E-5148-4489-977A-1961AA84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txp_fig"/>
          <p:cNvPicPr/>
          <p:nvPr/>
        </p:nvPicPr>
        <p:blipFill>
          <a:blip r:embed="rId3"/>
          <a:stretch/>
        </p:blipFill>
        <p:spPr>
          <a:xfrm>
            <a:off x="866880" y="666720"/>
            <a:ext cx="5459400" cy="17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8C2-550D-4858-BD2A-7EAA8D45D9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41AE-4A00-46DF-A118-C4BB083E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87240" y="698400"/>
            <a:ext cx="5642280" cy="25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txp_fig"/>
          <p:cNvPicPr/>
          <p:nvPr/>
        </p:nvPicPr>
        <p:blipFill>
          <a:blip r:embed="rId4"/>
          <a:stretch/>
        </p:blipFill>
        <p:spPr>
          <a:xfrm>
            <a:off x="738360" y="3427560"/>
            <a:ext cx="7265880" cy="24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6B6-2129-45AA-A0EC-C9DC092BA5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790-808B-4144-B00C-6B6FE27E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5DE-47C2-4928-AE68-0F13C3CC6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6F1-92DC-4B55-B69C-EC5B6D86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txp_fig"/>
          <p:cNvPicPr/>
          <p:nvPr/>
        </p:nvPicPr>
        <p:blipFill>
          <a:blip r:embed="rId3"/>
          <a:stretch/>
        </p:blipFill>
        <p:spPr>
          <a:xfrm>
            <a:off x="874800" y="595440"/>
            <a:ext cx="6192720" cy="1849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74800" y="2494080"/>
            <a:ext cx="4562280" cy="436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37080" y="2832120"/>
            <a:ext cx="3021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.id   3      4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 0   191 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   6     18  1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  96       0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perf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A84-0949-4830-B697-C66C255AC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7791-25F0-4F61-8C66-FC36EC2D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txp_fig"/>
          <p:cNvPicPr/>
          <p:nvPr/>
        </p:nvPicPr>
        <p:blipFill>
          <a:blip r:embed="rId3"/>
          <a:stretch/>
        </p:blipFill>
        <p:spPr>
          <a:xfrm>
            <a:off x="776160" y="554040"/>
            <a:ext cx="7588440" cy="55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250-3E81-43AF-8F63-B9B2A6062D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34C-9705-4825-B279-0248883F7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txp_fig"/>
          <p:cNvPicPr/>
          <p:nvPr/>
        </p:nvPicPr>
        <p:blipFill>
          <a:blip r:embed="rId3"/>
          <a:stretch/>
        </p:blipFill>
        <p:spPr>
          <a:xfrm>
            <a:off x="860400" y="731880"/>
            <a:ext cx="64515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0E9-B3DF-4264-B0F1-82D9A421CC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FB3E-8D42-49E2-9954-29270908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Edittex"/>
          <p:cNvPicPr/>
          <p:nvPr/>
        </p:nvPicPr>
        <p:blipFill>
          <a:blip r:embed="rId1"/>
          <a:stretch/>
        </p:blipFill>
        <p:spPr>
          <a:xfrm>
            <a:off x="595440" y="455760"/>
            <a:ext cx="7778520" cy="56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CDA-DB4D-4E6E-8C01-D57175781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34DA-9271-4DEC-8593-9D55F6066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txp_fig"/>
          <p:cNvPicPr/>
          <p:nvPr/>
        </p:nvPicPr>
        <p:blipFill>
          <a:blip r:embed="rId1"/>
          <a:stretch/>
        </p:blipFill>
        <p:spPr>
          <a:xfrm>
            <a:off x="781200" y="628560"/>
            <a:ext cx="7494480" cy="83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txp_fig"/>
          <p:cNvPicPr/>
          <p:nvPr/>
        </p:nvPicPr>
        <p:blipFill>
          <a:blip r:embed="rId2"/>
          <a:stretch/>
        </p:blipFill>
        <p:spPr>
          <a:xfrm>
            <a:off x="781200" y="2090880"/>
            <a:ext cx="3938400" cy="143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873680" y="1914480"/>
            <a:ext cx="3798720" cy="284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81200" y="4906800"/>
            <a:ext cx="612108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F4E-5451-4265-8A42-3E3FC5D66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A14-1AC0-4423-91B1-B60D1440E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808200" y="2452680"/>
            <a:ext cx="5676840" cy="304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Edittex"/>
          <p:cNvPicPr/>
          <p:nvPr/>
        </p:nvPicPr>
        <p:blipFill>
          <a:blip r:embed="rId4"/>
          <a:stretch/>
        </p:blipFill>
        <p:spPr>
          <a:xfrm>
            <a:off x="809640" y="5796000"/>
            <a:ext cx="7647120" cy="27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Edittex"/>
          <p:cNvPicPr/>
          <p:nvPr/>
        </p:nvPicPr>
        <p:blipFill>
          <a:blip r:embed="rId5"/>
          <a:stretch/>
        </p:blipFill>
        <p:spPr>
          <a:xfrm>
            <a:off x="760320" y="473040"/>
            <a:ext cx="772020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A30-951C-49CE-9F4D-43773CEC0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D81D-4D3E-4F1B-B1F5-76E844968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txp_fig"/>
          <p:cNvPicPr/>
          <p:nvPr/>
        </p:nvPicPr>
        <p:blipFill>
          <a:blip r:embed="rId3"/>
          <a:stretch/>
        </p:blipFill>
        <p:spPr>
          <a:xfrm>
            <a:off x="660240" y="561960"/>
            <a:ext cx="6599520" cy="27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rcRect l="-1635" t="45043" r="0" b="7289"/>
          <a:stretch/>
        </p:blipFill>
        <p:spPr>
          <a:xfrm>
            <a:off x="662040" y="979560"/>
            <a:ext cx="5641920" cy="255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txp_fig"/>
          <p:cNvPicPr/>
          <p:nvPr/>
        </p:nvPicPr>
        <p:blipFill>
          <a:blip r:embed="rId5"/>
          <a:stretch/>
        </p:blipFill>
        <p:spPr>
          <a:xfrm>
            <a:off x="687240" y="3643200"/>
            <a:ext cx="7266240" cy="24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E1A-7030-48AF-8360-07575D7ED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19C-5650-40A5-A144-69B2E065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90B-C664-43F0-BF2D-16B721548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E369-41C4-4524-8A4E-4C569D55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0"/>
          <p:cNvGrpSpPr/>
          <p:nvPr/>
        </p:nvGrpSpPr>
        <p:grpSpPr>
          <a:xfrm>
            <a:off x="687240" y="1231920"/>
            <a:ext cx="7955280" cy="2195640"/>
            <a:chOff x="687240" y="1231920"/>
            <a:chExt cx="7955280" cy="2195640"/>
          </a:xfrm>
        </p:grpSpPr>
        <p:pic>
          <p:nvPicPr>
            <p:cNvPr id="85" name="Picture 16" descr=""/>
            <p:cNvPicPr/>
            <p:nvPr/>
          </p:nvPicPr>
          <p:blipFill>
            <a:blip r:embed="rId3"/>
            <a:stretch/>
          </p:blipFill>
          <p:spPr>
            <a:xfrm>
              <a:off x="3330720" y="1231920"/>
              <a:ext cx="531180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7240" y="1231920"/>
              <a:ext cx="2494080" cy="209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txp_fig"/>
          <p:cNvPicPr/>
          <p:nvPr/>
        </p:nvPicPr>
        <p:blipFill>
          <a:blip r:embed="rId5"/>
          <a:stretch/>
        </p:blipFill>
        <p:spPr>
          <a:xfrm>
            <a:off x="676440" y="627120"/>
            <a:ext cx="5705280" cy="30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txp_fig"/>
          <p:cNvPicPr/>
          <p:nvPr/>
        </p:nvPicPr>
        <p:blipFill>
          <a:blip r:embed="rId6"/>
          <a:stretch/>
        </p:blipFill>
        <p:spPr>
          <a:xfrm>
            <a:off x="687240" y="3781440"/>
            <a:ext cx="7602840" cy="19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B39-917C-4746-93D3-3E0E09858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4A9-F1D1-4721-BDF0-6F4DB7358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txp_fig"/>
          <p:cNvPicPr/>
          <p:nvPr/>
        </p:nvPicPr>
        <p:blipFill>
          <a:blip r:embed="rId3"/>
          <a:stretch/>
        </p:blipFill>
        <p:spPr>
          <a:xfrm>
            <a:off x="838080" y="563400"/>
            <a:ext cx="7464600" cy="539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BDF-3E68-4130-B65F-42FF1E523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erner Stuetzle</dc:creator>
  <dc:description/>
  <dc:language>en-US</dc:language>
  <cp:lastModifiedBy>Werner Stuetzle</cp:lastModifiedBy>
  <cp:lastPrinted>2000-04-14T21:12:18Z</cp:lastPrinted>
  <dcterms:modified xsi:type="dcterms:W3CDTF">2009-05-15T11:10:14Z</dcterms:modified>
  <cp:revision>130</cp:revision>
  <dc:subject/>
  <dc:title>No Slide Title</dc:title>
</cp:coreProperties>
</file>