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1DC-836C-408C-A376-8C85519D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2F8-B734-466B-B472-C01543AB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49D-6E16-4955-96A6-54E7305A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C80-8E89-49B1-8058-7FDCF709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75A-A23E-4BC4-A798-584877A3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804-E808-474C-B5B7-70C3583B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726-917C-499C-BF03-70D785B9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CCA-BEFE-4ED2-80E1-310E0980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21A-5E0D-4804-B229-BBB12F88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68B-CDE1-4953-B546-C069CBC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B8A-314D-42AE-9AF5-A0950E6E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94D-8578-44FF-89F3-091B495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5A64-2258-4859-9598-D4AA830E9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arch for HF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brain activity is usually below 40 Hertz and certainly below 100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ooking for activity at several hundred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44600" y="-450720"/>
            <a:ext cx="10033200" cy="77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Problems,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a time-varying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, noise,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6 Channels - Which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r @ 1KHz = 1 Billion data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ing window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urier transform is O(N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something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time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Short-time FT ( aka RFF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53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74720" y="-355680"/>
            <a:ext cx="10693440" cy="75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774720" y="-355680"/>
            <a:ext cx="10693440" cy="75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Macintosh HD:Users:bill:Desktop:Documents:Talks:Yale-09:Second.avi" descr=""/>
          <p:cNvPicPr/>
          <p:nvPr/>
        </p:nvPicPr>
        <p:blipFill>
          <a:blip r:embed="rId1"/>
          <a:stretch/>
        </p:blipFill>
        <p:spPr>
          <a:xfrm>
            <a:off x="-482760" y="9360"/>
            <a:ext cx="101602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20:57:44Z</dcterms:created>
  <dc:creator>bill</dc:creator>
  <dc:description/>
  <dc:language>en-US</dc:language>
  <cp:lastModifiedBy>bill</cp:lastModifiedBy>
  <dcterms:modified xsi:type="dcterms:W3CDTF">2009-05-15T14:08:26Z</dcterms:modified>
  <cp:revision>12</cp:revision>
  <dc:subject/>
  <dc:title>The Search for HFOs</dc:title>
</cp:coreProperties>
</file>