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39.png" ContentType="image/png"/>
  <Override PartName="/ppt/media/image14.png" ContentType="image/png"/>
  <Override PartName="/ppt/media/image34.wmf" ContentType="image/x-wmf"/>
  <Override PartName="/ppt/media/image41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5.wmf" ContentType="image/x-wmf"/>
  <Override PartName="/ppt/media/image42.png" ContentType="image/png"/>
  <Override PartName="/ppt/media/image38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102475" cy="8593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5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302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5880" y="-360"/>
            <a:ext cx="3076560" cy="4302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410840" y="650520"/>
            <a:ext cx="4281480" cy="321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164080"/>
            <a:ext cx="3076560" cy="4302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5880" y="8164080"/>
            <a:ext cx="3076560" cy="4302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F5832FD-BA89-4EB2-BCA3-799CCBDB7C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A126146-C953-4F1B-B269-0D448FB7B6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40E4B5A-097A-4E41-8E9B-19A03DD9E5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DFB4F17-F070-452B-BB09-1DBE8F55A8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6947CB1-E7E5-4609-A99F-CEC36517E2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829AD35-11B1-45C7-9777-5B259B13A3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0DBB99-18A0-4AB7-99BE-C3274AA67EE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75AD0D1-DCD0-4198-B471-7C108183BF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2AF0769-6191-427B-BFEB-CDE65DE6913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D086C7-8B6D-4175-9998-5263E178DF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F7435B6-F7AC-4DD9-9ADD-48E043EDC6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826219D-9782-425C-AC96-9A08D6345F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19C9FB8-EFF9-428B-80D4-0054D407D1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1EC1760-76AD-4DF0-9EA7-D63B23FA7B2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2B85B95-DE26-49DC-9F25-477E156031C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653CCC5-F726-4131-8E42-93381227ED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C1C2A0E-03B8-4AE9-BDBF-8C51A2000DE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228FD1-5077-4201-AA67-2FBCF45818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1BE3742-DAAF-4CC5-A26D-AF58C79FCA4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B596630-4E86-4F5C-861F-970C4DFBB8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B755779-17B9-4566-AB90-602021C96A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FFD-7597-470E-ABDD-3B9C7B55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A04-7346-4DC3-96D4-008406E2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EF7-AB2E-4B47-8EF5-5283DD14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6CF-1B1C-4916-9F25-381443CF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C00-2090-4E51-B036-A716D20F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018-6170-4A9E-85E7-18A3DA47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5F41-62A0-4FD5-8DB6-DA8E7330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5EE-5D46-42DE-8495-0CB85936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17B-D153-4153-BC12-14490097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7C0-BD3A-4F04-950E-3B719568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BBB-B916-4E99-81D0-F9BE94CB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41A-BB71-47AB-8A87-03050528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15,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tigan works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6E3C-7CF7-4754-9382-237201A30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39.png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028880" y="723960"/>
            <a:ext cx="731520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John Hartigan’s contributions to clust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and some extens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ner Stuetzl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Statistic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1D0-35B5-425B-82ED-7F063C3AA0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" y="749160"/>
            <a:ext cx="551196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5120" y="749160"/>
            <a:ext cx="8475840" cy="481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073-F659-43C9-A7AA-EEBFFB7ED6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73000" y="660240"/>
            <a:ext cx="45277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73000" y="284040"/>
            <a:ext cx="7863120" cy="703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080-49B8-4CD8-B7B1-229C1B2BA3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7ABA-62E6-46E5-9131-68266274C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txp_fig"/>
          <p:cNvPicPr/>
          <p:nvPr/>
        </p:nvPicPr>
        <p:blipFill>
          <a:blip r:embed="rId3"/>
          <a:stretch/>
        </p:blipFill>
        <p:spPr>
          <a:xfrm>
            <a:off x="830160" y="531720"/>
            <a:ext cx="7480440" cy="57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84C-C6EF-4F83-948B-1DF65AD894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3329-0369-43F6-B841-CE8A6FE7A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txp_fig"/>
          <p:cNvPicPr/>
          <p:nvPr/>
        </p:nvPicPr>
        <p:blipFill>
          <a:blip r:embed="rId3"/>
          <a:stretch/>
        </p:blipFill>
        <p:spPr>
          <a:xfrm>
            <a:off x="830160" y="696960"/>
            <a:ext cx="7480440" cy="443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B8C-457E-459A-911C-311ACF09D7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73AC-CB1C-4A81-A35B-948D0C4EE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30"/>
          <p:cNvGrpSpPr/>
          <p:nvPr/>
        </p:nvGrpSpPr>
        <p:grpSpPr>
          <a:xfrm>
            <a:off x="685800" y="673200"/>
            <a:ext cx="7954560" cy="2195280"/>
            <a:chOff x="685800" y="673200"/>
            <a:chExt cx="7954560" cy="2195280"/>
          </a:xfrm>
        </p:grpSpPr>
        <p:pic>
          <p:nvPicPr>
            <p:cNvPr id="109" name="Picture 16" descr=""/>
            <p:cNvPicPr/>
            <p:nvPr/>
          </p:nvPicPr>
          <p:blipFill>
            <a:blip r:embed="rId3"/>
            <a:stretch/>
          </p:blipFill>
          <p:spPr>
            <a:xfrm>
              <a:off x="3328920" y="673200"/>
              <a:ext cx="5311440" cy="21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7" descr=""/>
            <p:cNvPicPr/>
            <p:nvPr/>
          </p:nvPicPr>
          <p:blipFill>
            <a:blip r:embed="rId4"/>
            <a:srcRect l="25055" t="35442" r="17490" b="30529"/>
            <a:stretch/>
          </p:blipFill>
          <p:spPr>
            <a:xfrm>
              <a:off x="685800" y="673200"/>
              <a:ext cx="2493720" cy="20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" descr="txp_fig"/>
          <p:cNvPicPr/>
          <p:nvPr/>
        </p:nvPicPr>
        <p:blipFill>
          <a:blip r:embed="rId5"/>
          <a:stretch/>
        </p:blipFill>
        <p:spPr>
          <a:xfrm>
            <a:off x="779400" y="3171960"/>
            <a:ext cx="7580520" cy="264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123-7C24-463C-92B9-D0BC48169D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8836-9250-4A5B-845A-1AFEEF5C5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txp_fig"/>
          <p:cNvPicPr/>
          <p:nvPr/>
        </p:nvPicPr>
        <p:blipFill>
          <a:blip r:embed="rId3"/>
          <a:stretch/>
        </p:blipFill>
        <p:spPr>
          <a:xfrm>
            <a:off x="768240" y="708120"/>
            <a:ext cx="7604280" cy="413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7BB-3162-428B-85A8-4EAC411511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509760"/>
            <a:ext cx="8585280" cy="48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039-9B61-4860-AD0E-C740A4B697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509760"/>
            <a:ext cx="8636040" cy="489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9AE-E64E-4AB4-B571-83DA6A84EF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522360"/>
            <a:ext cx="8583840" cy="48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2D8-DCE4-4F32-95B8-1E5585CA0F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1D00-7307-421B-98B8-727B61236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txp_fig"/>
          <p:cNvPicPr/>
          <p:nvPr/>
        </p:nvPicPr>
        <p:blipFill>
          <a:blip r:embed="rId3"/>
          <a:stretch/>
        </p:blipFill>
        <p:spPr>
          <a:xfrm>
            <a:off x="787320" y="666720"/>
            <a:ext cx="7597800" cy="438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AE3-4CBC-4C8A-8B78-497F2613D4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690480" y="4371840"/>
            <a:ext cx="7565760" cy="1876320"/>
            <a:chOff x="690480" y="4371840"/>
            <a:chExt cx="7565760" cy="1876320"/>
          </a:xfrm>
        </p:grpSpPr>
        <p:pic>
          <p:nvPicPr>
            <p:cNvPr id="51" name="Picture 4" descr=""/>
            <p:cNvPicPr/>
            <p:nvPr/>
          </p:nvPicPr>
          <p:blipFill>
            <a:blip r:embed="rId1"/>
            <a:stretch/>
          </p:blipFill>
          <p:spPr>
            <a:xfrm>
              <a:off x="690480" y="4371840"/>
              <a:ext cx="173196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5" descr=""/>
            <p:cNvPicPr/>
            <p:nvPr/>
          </p:nvPicPr>
          <p:blipFill>
            <a:blip r:embed="rId2"/>
            <a:stretch/>
          </p:blipFill>
          <p:spPr>
            <a:xfrm>
              <a:off x="2676240" y="4419360"/>
              <a:ext cx="16858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6" descr=""/>
            <p:cNvPicPr/>
            <p:nvPr/>
          </p:nvPicPr>
          <p:blipFill>
            <a:blip r:embed="rId3"/>
            <a:stretch/>
          </p:blipFill>
          <p:spPr>
            <a:xfrm>
              <a:off x="4616280" y="4419360"/>
              <a:ext cx="16858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7" descr=""/>
            <p:cNvPicPr/>
            <p:nvPr/>
          </p:nvPicPr>
          <p:blipFill>
            <a:blip r:embed="rId4"/>
            <a:stretch/>
          </p:blipFill>
          <p:spPr>
            <a:xfrm>
              <a:off x="6557760" y="4419360"/>
              <a:ext cx="1698480" cy="18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Edittex"/>
          <p:cNvPicPr/>
          <p:nvPr/>
        </p:nvPicPr>
        <p:blipFill>
          <a:blip r:embed="rId5"/>
          <a:stretch/>
        </p:blipFill>
        <p:spPr>
          <a:xfrm>
            <a:off x="722160" y="493560"/>
            <a:ext cx="7736040" cy="367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D93-5430-4AD8-A101-43C75FF249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5B1F-DC4C-4287-B91F-68C4F7B2E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txp_fig"/>
          <p:cNvPicPr/>
          <p:nvPr/>
        </p:nvPicPr>
        <p:blipFill>
          <a:blip r:embed="rId3"/>
          <a:stretch/>
        </p:blipFill>
        <p:spPr>
          <a:xfrm>
            <a:off x="866880" y="666720"/>
            <a:ext cx="5459400" cy="173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4B55-20AA-4A34-8BA1-DAAA5F8AF8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0BEE-0D5E-4E73-A27F-FEE9B218E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3"/>
          <a:srcRect l="-1635" t="45043" r="0" b="7289"/>
          <a:stretch/>
        </p:blipFill>
        <p:spPr>
          <a:xfrm>
            <a:off x="687240" y="698400"/>
            <a:ext cx="5642280" cy="2551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txp_fig"/>
          <p:cNvPicPr/>
          <p:nvPr/>
        </p:nvPicPr>
        <p:blipFill>
          <a:blip r:embed="rId4"/>
          <a:stretch/>
        </p:blipFill>
        <p:spPr>
          <a:xfrm>
            <a:off x="738360" y="3427560"/>
            <a:ext cx="7265880" cy="247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E63-600C-4D75-A675-806073C8C4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CD16-D8CE-4BCE-9570-DBDABF073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rcRect l="-1635" t="45043" r="0" b="7289"/>
          <a:stretch/>
        </p:blipFill>
        <p:spPr>
          <a:xfrm>
            <a:off x="662040" y="573120"/>
            <a:ext cx="5616360" cy="253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txp_fig"/>
          <p:cNvPicPr/>
          <p:nvPr/>
        </p:nvPicPr>
        <p:blipFill>
          <a:blip r:embed="rId4"/>
          <a:stretch/>
        </p:blipFill>
        <p:spPr>
          <a:xfrm>
            <a:off x="539640" y="3427560"/>
            <a:ext cx="7699320" cy="249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2D1-63EA-40A8-A936-FEA96F15A7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B7A0-12BE-416C-9CDA-2BCFB2650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txp_fig"/>
          <p:cNvPicPr/>
          <p:nvPr/>
        </p:nvPicPr>
        <p:blipFill>
          <a:blip r:embed="rId3"/>
          <a:stretch/>
        </p:blipFill>
        <p:spPr>
          <a:xfrm>
            <a:off x="874800" y="595440"/>
            <a:ext cx="6192720" cy="1849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874800" y="2494080"/>
            <a:ext cx="4562280" cy="4363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437080" y="2832120"/>
            <a:ext cx="30211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.id   3      4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      0   191     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      6     18  1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     96       0    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most perfec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3FD-2DAA-42AC-90AC-BEAB2C9B7A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9DAD-3988-4AC4-8914-94EC2954D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txp_fig"/>
          <p:cNvPicPr/>
          <p:nvPr/>
        </p:nvPicPr>
        <p:blipFill>
          <a:blip r:embed="rId3"/>
          <a:stretch/>
        </p:blipFill>
        <p:spPr>
          <a:xfrm>
            <a:off x="776160" y="554040"/>
            <a:ext cx="7588440" cy="551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6E0-0B50-4148-B564-B236822BFA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E9A0-E911-48A2-9AB5-B5028D2C3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txp_fig"/>
          <p:cNvPicPr/>
          <p:nvPr/>
        </p:nvPicPr>
        <p:blipFill>
          <a:blip r:embed="rId3"/>
          <a:stretch/>
        </p:blipFill>
        <p:spPr>
          <a:xfrm>
            <a:off x="860400" y="731880"/>
            <a:ext cx="645156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285-6730-4BA8-A2A5-94BE0A83AF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4C6D-4136-4CA5-8521-3DE42F585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Edittex"/>
          <p:cNvPicPr/>
          <p:nvPr/>
        </p:nvPicPr>
        <p:blipFill>
          <a:blip r:embed="rId1"/>
          <a:stretch/>
        </p:blipFill>
        <p:spPr>
          <a:xfrm>
            <a:off x="595440" y="455760"/>
            <a:ext cx="7778520" cy="56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C654-6D33-4692-A6DD-FEDBCD2839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4617-D7B0-44A9-959D-190E666A0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txp_fig"/>
          <p:cNvPicPr/>
          <p:nvPr/>
        </p:nvPicPr>
        <p:blipFill>
          <a:blip r:embed="rId1"/>
          <a:stretch/>
        </p:blipFill>
        <p:spPr>
          <a:xfrm>
            <a:off x="781200" y="628560"/>
            <a:ext cx="7494480" cy="839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txp_fig"/>
          <p:cNvPicPr/>
          <p:nvPr/>
        </p:nvPicPr>
        <p:blipFill>
          <a:blip r:embed="rId2"/>
          <a:stretch/>
        </p:blipFill>
        <p:spPr>
          <a:xfrm>
            <a:off x="781200" y="2090880"/>
            <a:ext cx="3938400" cy="143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4873680" y="1914480"/>
            <a:ext cx="3798720" cy="284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81200" y="4906800"/>
            <a:ext cx="612108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7E0-9F04-4CE4-B4B4-03DDAB2E45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642A-499E-489E-BA20-2472BB0B4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808200" y="2452680"/>
            <a:ext cx="5676840" cy="3040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Edittex"/>
          <p:cNvPicPr/>
          <p:nvPr/>
        </p:nvPicPr>
        <p:blipFill>
          <a:blip r:embed="rId4"/>
          <a:stretch/>
        </p:blipFill>
        <p:spPr>
          <a:xfrm>
            <a:off x="809640" y="5796000"/>
            <a:ext cx="7647120" cy="271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Edittex"/>
          <p:cNvPicPr/>
          <p:nvPr/>
        </p:nvPicPr>
        <p:blipFill>
          <a:blip r:embed="rId5"/>
          <a:stretch/>
        </p:blipFill>
        <p:spPr>
          <a:xfrm>
            <a:off x="760320" y="473040"/>
            <a:ext cx="7720200" cy="176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0D2-E06B-4960-B7E8-EF61A06422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5A8E-7D3B-4113-BB47-F21009B85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txp_fig"/>
          <p:cNvPicPr/>
          <p:nvPr/>
        </p:nvPicPr>
        <p:blipFill>
          <a:blip r:embed="rId3"/>
          <a:stretch/>
        </p:blipFill>
        <p:spPr>
          <a:xfrm>
            <a:off x="660240" y="561960"/>
            <a:ext cx="6599520" cy="27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rcRect l="-1635" t="45043" r="0" b="7289"/>
          <a:stretch/>
        </p:blipFill>
        <p:spPr>
          <a:xfrm>
            <a:off x="662040" y="979560"/>
            <a:ext cx="5641920" cy="255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txp_fig"/>
          <p:cNvPicPr/>
          <p:nvPr/>
        </p:nvPicPr>
        <p:blipFill>
          <a:blip r:embed="rId5"/>
          <a:stretch/>
        </p:blipFill>
        <p:spPr>
          <a:xfrm>
            <a:off x="687240" y="3643200"/>
            <a:ext cx="7266240" cy="247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7B5-5F9F-4445-8193-9FDC1FA83A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E71A-527F-4A6F-BDAB-111476F09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rcRect l="-1635" t="45043" r="0" b="7289"/>
          <a:stretch/>
        </p:blipFill>
        <p:spPr>
          <a:xfrm>
            <a:off x="662040" y="573120"/>
            <a:ext cx="5616360" cy="2539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txp_fig"/>
          <p:cNvPicPr/>
          <p:nvPr/>
        </p:nvPicPr>
        <p:blipFill>
          <a:blip r:embed="rId4"/>
          <a:stretch/>
        </p:blipFill>
        <p:spPr>
          <a:xfrm>
            <a:off x="539640" y="3427560"/>
            <a:ext cx="7699320" cy="249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927C-A548-43E8-99A8-1392CBF0CC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A57B-C6E5-4D07-87BB-BA6A9D776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30"/>
          <p:cNvGrpSpPr/>
          <p:nvPr/>
        </p:nvGrpSpPr>
        <p:grpSpPr>
          <a:xfrm>
            <a:off x="687240" y="1231920"/>
            <a:ext cx="7955280" cy="2195640"/>
            <a:chOff x="687240" y="1231920"/>
            <a:chExt cx="7955280" cy="2195640"/>
          </a:xfrm>
        </p:grpSpPr>
        <p:pic>
          <p:nvPicPr>
            <p:cNvPr id="85" name="Picture 16" descr=""/>
            <p:cNvPicPr/>
            <p:nvPr/>
          </p:nvPicPr>
          <p:blipFill>
            <a:blip r:embed="rId3"/>
            <a:stretch/>
          </p:blipFill>
          <p:spPr>
            <a:xfrm>
              <a:off x="3330720" y="1231920"/>
              <a:ext cx="5311800" cy="21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7" descr=""/>
            <p:cNvPicPr/>
            <p:nvPr/>
          </p:nvPicPr>
          <p:blipFill>
            <a:blip r:embed="rId4"/>
            <a:srcRect l="25055" t="35442" r="17490" b="30529"/>
            <a:stretch/>
          </p:blipFill>
          <p:spPr>
            <a:xfrm>
              <a:off x="687240" y="1231920"/>
              <a:ext cx="2494080" cy="209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" descr="txp_fig"/>
          <p:cNvPicPr/>
          <p:nvPr/>
        </p:nvPicPr>
        <p:blipFill>
          <a:blip r:embed="rId5"/>
          <a:stretch/>
        </p:blipFill>
        <p:spPr>
          <a:xfrm>
            <a:off x="676440" y="627120"/>
            <a:ext cx="5705280" cy="306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txp_fig"/>
          <p:cNvPicPr/>
          <p:nvPr/>
        </p:nvPicPr>
        <p:blipFill>
          <a:blip r:embed="rId6"/>
          <a:stretch/>
        </p:blipFill>
        <p:spPr>
          <a:xfrm>
            <a:off x="687240" y="3781440"/>
            <a:ext cx="7602840" cy="19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273-4043-45C5-B7D1-24A96011A8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29BA-21EC-4A42-95DE-6B531753A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txp_fig"/>
          <p:cNvPicPr/>
          <p:nvPr/>
        </p:nvPicPr>
        <p:blipFill>
          <a:blip r:embed="rId3"/>
          <a:stretch/>
        </p:blipFill>
        <p:spPr>
          <a:xfrm>
            <a:off x="838080" y="563400"/>
            <a:ext cx="7464600" cy="539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68D-4A84-406D-A8B6-393837B7A5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Werner Stuetzle</dc:creator>
  <dc:description/>
  <dc:language>en-US</dc:language>
  <cp:lastModifiedBy>Werner Stuetzle</cp:lastModifiedBy>
  <cp:lastPrinted>2000-04-14T21:12:18Z</cp:lastPrinted>
  <dcterms:modified xsi:type="dcterms:W3CDTF">2009-05-15T11:10:14Z</dcterms:modified>
  <cp:revision>130</cp:revision>
  <dc:subject/>
  <dc:title>No Slide Title</dc:title>
</cp:coreProperties>
</file>