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1A9-A8F6-45E0-ACD3-DF5AFC81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F75-3E95-487A-9A09-FE668E6A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067-04CB-4448-82EC-1B0CC92F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E74-3B64-4006-B35F-B6E20057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6D2-A5D1-4E73-B479-B221BCC6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6A2-05F7-4B8A-B604-BA557FCA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0E3-9798-4658-B1C5-9F197B7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EB8-BF32-4F2B-8AA2-FE908170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8DA-877F-46DC-8946-61DE0DA9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CC1-1F8C-4B0D-8046-5AF97D01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8A1-2C31-4DB1-95E3-915B2CE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E19-337A-4A3B-924C-1D7C329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4C88-FBD8-42B0-B655-5D23EF62C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arch for HF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brain activity is usually below 40 Hertz and certainly below 100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 activity at several hundred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44600" y="-450720"/>
            <a:ext cx="10033200" cy="77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, Problems,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a time-varying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, noise,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6 Channels - Which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r @ 1KHz = 1 Billion data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window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urier transform is O(Nlo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something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ime Fourier 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Short-time FT ( aka RFF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74720" y="-355680"/>
            <a:ext cx="10693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774720" y="-355680"/>
            <a:ext cx="10693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acintosh HD:Users:bill:Desktop:Documents:Talks:Yale-09:Second.avi" descr=""/>
          <p:cNvPicPr/>
          <p:nvPr/>
        </p:nvPicPr>
        <p:blipFill>
          <a:blip r:embed="rId1"/>
          <a:stretch/>
        </p:blipFill>
        <p:spPr>
          <a:xfrm>
            <a:off x="-482760" y="9360"/>
            <a:ext cx="101602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84240" y="-604800"/>
            <a:ext cx="7174080" cy="80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0:57:44Z</dcterms:created>
  <dc:creator>bill</dc:creator>
  <dc:description/>
  <dc:language>en-US</dc:language>
  <cp:lastModifiedBy>bill</cp:lastModifiedBy>
  <dcterms:modified xsi:type="dcterms:W3CDTF">2009-05-15T14:08:26Z</dcterms:modified>
  <cp:revision>12</cp:revision>
  <dc:subject/>
  <dc:title>The Search for HFOs</dc:title>
</cp:coreProperties>
</file>