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9.png" ContentType="image/png"/>
  <Override PartName="/ppt/media/image14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5.wmf" ContentType="image/x-wmf"/>
  <Override PartName="/ppt/media/image42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5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5880" y="-36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10840" y="650520"/>
            <a:ext cx="4281480" cy="32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5880" y="8164080"/>
            <a:ext cx="3076560" cy="4302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8F078D-1544-47DE-A74F-DA2A3B6FA9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FA1836-0C4F-463C-ACB1-A273C3F3A5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7D3A5E-BEFC-4E48-8052-CC08C47F57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8B6450-946D-4AA6-B783-033362CB63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DA3297-8A6F-41A5-A6E8-BCADAD7815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5E10DB-0DE9-494D-95EA-EA15FE2BFE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45B27C-C9F9-4F7B-9730-7D3B3865D0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CADC7E-A523-4D58-8284-663A760BDC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586DD8-24FC-4BFA-BF57-FF8D2E8936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A7555F-48E2-423E-B674-25BE6E6584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CA2D39-F839-48B3-B4FC-BD3F7A4E1E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4D942F-1013-4799-B9BA-C257CE9B0F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6089E9-E243-458A-B529-425F0DB09C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F13043-FB56-4712-8E3F-74E4E3C897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27762E-2D13-488F-BC27-164C636F09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34C8F9-07C0-4650-A4F3-22571FD79F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319E30-2C34-4FDE-9113-E7D6ABC5C9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ED2391-8AB3-449C-B4E5-BC14F9CF68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621105-2746-4AA7-8B74-6D3DA9F799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C61675-45D7-429D-9468-AD67E83F40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5880" y="8164440"/>
            <a:ext cx="3076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E18C94-2F74-492B-B432-C28FD8D63E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1120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5720" y="4083120"/>
            <a:ext cx="52102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2D-E04C-4E27-848C-EBF6A029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FEC-CB27-4829-AE89-477F67C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01D-6285-4DB9-8DB2-8B83F3A1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065-C0AF-479C-A3FC-3C8A9AF0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B37-0677-4A7C-9A32-E4EC45C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5C3-AC6C-4A21-A1AD-D793988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782-8B0A-4A71-B903-DF20ED81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C01-4883-4F63-B1C2-61498F6C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446-51C6-42CC-87FC-E58DE951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112-E358-4C12-9102-C2C2BD0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785-7570-4408-8BB6-6B916E1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628-F25F-46A3-8369-76CE2B0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1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tigan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67C0-BD5E-4161-953A-4E7AA038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28880" y="723960"/>
            <a:ext cx="73152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John Hartigan’s contributions to clus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nd some exten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Stuetzl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Statis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6ED-4C4D-4537-8C2D-0CD367936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749160"/>
            <a:ext cx="55119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5120" y="749160"/>
            <a:ext cx="8475840" cy="481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834-A027-465B-91B0-C4DBB0ABD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73000" y="660240"/>
            <a:ext cx="45277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73000" y="284040"/>
            <a:ext cx="7863120" cy="703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A32-BDF8-416F-BB1F-B2106970E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6CF-ACAE-4E92-9FF8-ADD4FD70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txp_fig"/>
          <p:cNvPicPr/>
          <p:nvPr/>
        </p:nvPicPr>
        <p:blipFill>
          <a:blip r:embed="rId3"/>
          <a:stretch/>
        </p:blipFill>
        <p:spPr>
          <a:xfrm>
            <a:off x="830160" y="531720"/>
            <a:ext cx="7480440" cy="57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E9A-9F66-4DA5-9F5A-32FE65ED18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F9E-FBE4-4720-8087-18C857A06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xp_fig"/>
          <p:cNvPicPr/>
          <p:nvPr/>
        </p:nvPicPr>
        <p:blipFill>
          <a:blip r:embed="rId3"/>
          <a:stretch/>
        </p:blipFill>
        <p:spPr>
          <a:xfrm>
            <a:off x="830160" y="696960"/>
            <a:ext cx="7480440" cy="44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564-BCAF-4C68-A6EB-5D62D0F89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5D8-47BD-4DDB-B995-C3DD0EE4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0"/>
          <p:cNvGrpSpPr/>
          <p:nvPr/>
        </p:nvGrpSpPr>
        <p:grpSpPr>
          <a:xfrm>
            <a:off x="685800" y="673200"/>
            <a:ext cx="7954560" cy="2195280"/>
            <a:chOff x="685800" y="673200"/>
            <a:chExt cx="7954560" cy="2195280"/>
          </a:xfrm>
        </p:grpSpPr>
        <p:pic>
          <p:nvPicPr>
            <p:cNvPr id="109" name="Picture 16" descr=""/>
            <p:cNvPicPr/>
            <p:nvPr/>
          </p:nvPicPr>
          <p:blipFill>
            <a:blip r:embed="rId3"/>
            <a:stretch/>
          </p:blipFill>
          <p:spPr>
            <a:xfrm>
              <a:off x="3328920" y="673200"/>
              <a:ext cx="531144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5800" y="673200"/>
              <a:ext cx="2493720" cy="20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txp_fig"/>
          <p:cNvPicPr/>
          <p:nvPr/>
        </p:nvPicPr>
        <p:blipFill>
          <a:blip r:embed="rId5"/>
          <a:stretch/>
        </p:blipFill>
        <p:spPr>
          <a:xfrm>
            <a:off x="779400" y="3171960"/>
            <a:ext cx="7580520" cy="26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1D9-A3B3-4A65-B20B-A034E5C70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F11-F9D3-48C3-9CB2-829E394A8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txp_fig"/>
          <p:cNvPicPr/>
          <p:nvPr/>
        </p:nvPicPr>
        <p:blipFill>
          <a:blip r:embed="rId3"/>
          <a:stretch/>
        </p:blipFill>
        <p:spPr>
          <a:xfrm>
            <a:off x="768240" y="708120"/>
            <a:ext cx="7604280" cy="413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402-50F5-4141-9AB6-ECA17A159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58528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9AE-8085-4687-9DF4-E60F256FA9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8636040" cy="489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A47-5451-4A19-B6B4-44FC1210A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522360"/>
            <a:ext cx="8583840" cy="48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A9B-9FD8-4204-97E0-AEFB820BA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2FD-9937-4A74-9A2D-BB2CDA53F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txp_fig"/>
          <p:cNvPicPr/>
          <p:nvPr/>
        </p:nvPicPr>
        <p:blipFill>
          <a:blip r:embed="rId3"/>
          <a:stretch/>
        </p:blipFill>
        <p:spPr>
          <a:xfrm>
            <a:off x="787320" y="666720"/>
            <a:ext cx="7597800" cy="43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607-C26B-44C1-B89F-F64D26D5E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690480" y="4371840"/>
            <a:ext cx="7565760" cy="1876320"/>
            <a:chOff x="690480" y="4371840"/>
            <a:chExt cx="7565760" cy="187632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690480" y="4371840"/>
              <a:ext cx="17319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267624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3"/>
            <a:stretch/>
          </p:blipFill>
          <p:spPr>
            <a:xfrm>
              <a:off x="4616280" y="4419360"/>
              <a:ext cx="16858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4"/>
            <a:stretch/>
          </p:blipFill>
          <p:spPr>
            <a:xfrm>
              <a:off x="6557760" y="4419360"/>
              <a:ext cx="169848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Edittex"/>
          <p:cNvPicPr/>
          <p:nvPr/>
        </p:nvPicPr>
        <p:blipFill>
          <a:blip r:embed="rId5"/>
          <a:stretch/>
        </p:blipFill>
        <p:spPr>
          <a:xfrm>
            <a:off x="722160" y="493560"/>
            <a:ext cx="773604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922-EA5D-4D25-848D-13B3DC59E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6F2-4DC3-4A88-9583-20ED18F0C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txp_fig"/>
          <p:cNvPicPr/>
          <p:nvPr/>
        </p:nvPicPr>
        <p:blipFill>
          <a:blip r:embed="rId3"/>
          <a:stretch/>
        </p:blipFill>
        <p:spPr>
          <a:xfrm>
            <a:off x="866880" y="666720"/>
            <a:ext cx="5459400" cy="17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270-C0AD-40C7-845C-FFC5720EB4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472-72A9-479C-B47C-C322963B2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87240" y="698400"/>
            <a:ext cx="5642280" cy="25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txp_fig"/>
          <p:cNvPicPr/>
          <p:nvPr/>
        </p:nvPicPr>
        <p:blipFill>
          <a:blip r:embed="rId4"/>
          <a:stretch/>
        </p:blipFill>
        <p:spPr>
          <a:xfrm>
            <a:off x="738360" y="3427560"/>
            <a:ext cx="7265880" cy="24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0FB-F0BA-4EE2-9BDF-4874E2CD2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520-BADC-48EB-952C-5DD0632F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A29-5A24-48AB-A61F-54DA972977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4F0-7E4B-4ADE-8653-C0894760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txp_fig"/>
          <p:cNvPicPr/>
          <p:nvPr/>
        </p:nvPicPr>
        <p:blipFill>
          <a:blip r:embed="rId3"/>
          <a:stretch/>
        </p:blipFill>
        <p:spPr>
          <a:xfrm>
            <a:off x="874800" y="595440"/>
            <a:ext cx="6192720" cy="1849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74800" y="2494080"/>
            <a:ext cx="4562280" cy="436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37080" y="2832120"/>
            <a:ext cx="3021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.id   3      4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 0   191 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   6     18  1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  96       0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perf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989-A197-4550-8773-51DB57A23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1C0-9C85-4D3C-8752-7295CFEF9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txp_fig"/>
          <p:cNvPicPr/>
          <p:nvPr/>
        </p:nvPicPr>
        <p:blipFill>
          <a:blip r:embed="rId3"/>
          <a:stretch/>
        </p:blipFill>
        <p:spPr>
          <a:xfrm>
            <a:off x="776160" y="554040"/>
            <a:ext cx="7588440" cy="55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63C-6027-4D54-86BF-5BB0AF59CC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943-DA33-474B-B824-EE6CDD19C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txp_fig"/>
          <p:cNvPicPr/>
          <p:nvPr/>
        </p:nvPicPr>
        <p:blipFill>
          <a:blip r:embed="rId3"/>
          <a:stretch/>
        </p:blipFill>
        <p:spPr>
          <a:xfrm>
            <a:off x="860400" y="731880"/>
            <a:ext cx="64515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2B7-25C6-4A1E-BA39-A5776443FF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E09-3E9A-4E5B-9D98-290B106B1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Edittex"/>
          <p:cNvPicPr/>
          <p:nvPr/>
        </p:nvPicPr>
        <p:blipFill>
          <a:blip r:embed="rId1"/>
          <a:stretch/>
        </p:blipFill>
        <p:spPr>
          <a:xfrm>
            <a:off x="595440" y="455760"/>
            <a:ext cx="7778520" cy="56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F8C-A13F-403D-B00D-D835504BB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6559-BECC-4257-A8EF-9623E32A0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txp_fig"/>
          <p:cNvPicPr/>
          <p:nvPr/>
        </p:nvPicPr>
        <p:blipFill>
          <a:blip r:embed="rId1"/>
          <a:stretch/>
        </p:blipFill>
        <p:spPr>
          <a:xfrm>
            <a:off x="781200" y="628560"/>
            <a:ext cx="7494480" cy="83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txp_fig"/>
          <p:cNvPicPr/>
          <p:nvPr/>
        </p:nvPicPr>
        <p:blipFill>
          <a:blip r:embed="rId2"/>
          <a:stretch/>
        </p:blipFill>
        <p:spPr>
          <a:xfrm>
            <a:off x="781200" y="2090880"/>
            <a:ext cx="3938400" cy="143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873680" y="1914480"/>
            <a:ext cx="3798720" cy="284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81200" y="4906800"/>
            <a:ext cx="612108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640-BE06-43BE-B083-AF1BE8051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30A-A8AA-4E53-883A-A66FA4AF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808200" y="2452680"/>
            <a:ext cx="5676840" cy="304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Edittex"/>
          <p:cNvPicPr/>
          <p:nvPr/>
        </p:nvPicPr>
        <p:blipFill>
          <a:blip r:embed="rId4"/>
          <a:stretch/>
        </p:blipFill>
        <p:spPr>
          <a:xfrm>
            <a:off x="809640" y="5796000"/>
            <a:ext cx="7647120" cy="27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Edittex"/>
          <p:cNvPicPr/>
          <p:nvPr/>
        </p:nvPicPr>
        <p:blipFill>
          <a:blip r:embed="rId5"/>
          <a:stretch/>
        </p:blipFill>
        <p:spPr>
          <a:xfrm>
            <a:off x="760320" y="473040"/>
            <a:ext cx="772020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001-04C1-47E1-890E-5B40FAF8D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8E8-4FB5-4836-89AD-66919C8D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txp_fig"/>
          <p:cNvPicPr/>
          <p:nvPr/>
        </p:nvPicPr>
        <p:blipFill>
          <a:blip r:embed="rId3"/>
          <a:stretch/>
        </p:blipFill>
        <p:spPr>
          <a:xfrm>
            <a:off x="660240" y="561960"/>
            <a:ext cx="6599520" cy="27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rcRect l="-1635" t="45043" r="0" b="7289"/>
          <a:stretch/>
        </p:blipFill>
        <p:spPr>
          <a:xfrm>
            <a:off x="662040" y="979560"/>
            <a:ext cx="5641920" cy="255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txp_fig"/>
          <p:cNvPicPr/>
          <p:nvPr/>
        </p:nvPicPr>
        <p:blipFill>
          <a:blip r:embed="rId5"/>
          <a:stretch/>
        </p:blipFill>
        <p:spPr>
          <a:xfrm>
            <a:off x="687240" y="3643200"/>
            <a:ext cx="7266240" cy="24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C79-9E12-4D64-A7B7-F01DB070EF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1A8-3FB6-4C73-AFB4-6A7F7EF5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-1635" t="45043" r="0" b="7289"/>
          <a:stretch/>
        </p:blipFill>
        <p:spPr>
          <a:xfrm>
            <a:off x="662040" y="573120"/>
            <a:ext cx="5616360" cy="253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txp_fig"/>
          <p:cNvPicPr/>
          <p:nvPr/>
        </p:nvPicPr>
        <p:blipFill>
          <a:blip r:embed="rId4"/>
          <a:stretch/>
        </p:blipFill>
        <p:spPr>
          <a:xfrm>
            <a:off x="539640" y="3427560"/>
            <a:ext cx="7699320" cy="24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F53-9385-42C0-A28E-BB478D687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815-3DCF-41B2-890C-5C66D4518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0"/>
          <p:cNvGrpSpPr/>
          <p:nvPr/>
        </p:nvGrpSpPr>
        <p:grpSpPr>
          <a:xfrm>
            <a:off x="687240" y="1231920"/>
            <a:ext cx="7955280" cy="2195640"/>
            <a:chOff x="687240" y="1231920"/>
            <a:chExt cx="7955280" cy="2195640"/>
          </a:xfrm>
        </p:grpSpPr>
        <p:pic>
          <p:nvPicPr>
            <p:cNvPr id="85" name="Picture 16" descr=""/>
            <p:cNvPicPr/>
            <p:nvPr/>
          </p:nvPicPr>
          <p:blipFill>
            <a:blip r:embed="rId3"/>
            <a:stretch/>
          </p:blipFill>
          <p:spPr>
            <a:xfrm>
              <a:off x="3330720" y="1231920"/>
              <a:ext cx="531180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7" descr=""/>
            <p:cNvPicPr/>
            <p:nvPr/>
          </p:nvPicPr>
          <p:blipFill>
            <a:blip r:embed="rId4"/>
            <a:srcRect l="25055" t="35442" r="17490" b="30529"/>
            <a:stretch/>
          </p:blipFill>
          <p:spPr>
            <a:xfrm>
              <a:off x="687240" y="1231920"/>
              <a:ext cx="2494080" cy="209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txp_fig"/>
          <p:cNvPicPr/>
          <p:nvPr/>
        </p:nvPicPr>
        <p:blipFill>
          <a:blip r:embed="rId5"/>
          <a:stretch/>
        </p:blipFill>
        <p:spPr>
          <a:xfrm>
            <a:off x="676440" y="627120"/>
            <a:ext cx="5705280" cy="30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txp_fig"/>
          <p:cNvPicPr/>
          <p:nvPr/>
        </p:nvPicPr>
        <p:blipFill>
          <a:blip r:embed="rId6"/>
          <a:stretch/>
        </p:blipFill>
        <p:spPr>
          <a:xfrm>
            <a:off x="687240" y="3781440"/>
            <a:ext cx="7602840" cy="19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4AB-73CA-430F-B52F-32EE946C0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48F-5AD1-4848-9421-22ED434D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570560" y="342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371840" y="3556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txp_fig"/>
          <p:cNvPicPr/>
          <p:nvPr/>
        </p:nvPicPr>
        <p:blipFill>
          <a:blip r:embed="rId3"/>
          <a:stretch/>
        </p:blipFill>
        <p:spPr>
          <a:xfrm>
            <a:off x="838080" y="563400"/>
            <a:ext cx="7464600" cy="539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0F3-3FF1-4736-A41E-584867ABE2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erner Stuetzle</dc:creator>
  <dc:description/>
  <dc:language>en-US</dc:language>
  <cp:lastModifiedBy>Werner Stuetzle</cp:lastModifiedBy>
  <cp:lastPrinted>2000-04-14T21:12:18Z</cp:lastPrinted>
  <dcterms:modified xsi:type="dcterms:W3CDTF">2009-05-15T11:10:14Z</dcterms:modified>
  <cp:revision>130</cp:revision>
  <dc:subject/>
  <dc:title>No Slide Title</dc:title>
</cp:coreProperties>
</file>