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084-9AB1-4879-8A32-0F8471B65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F19-0625-41B4-8D50-8EF53E166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345-1402-4860-9E25-2F96E44A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388-EABB-4DD6-BE24-337CA38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703-C66A-4F4C-A7FB-BFB593B8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397-F162-43CA-BCF6-D7B53B0F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5DB-A506-4097-B44E-7AA5F8BC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71C-25E4-4E20-843D-E138EBD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89C-9CAE-4259-9154-5823F6FB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D67-BC1F-4FF4-8EAD-ABAA959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339-9AA1-40EF-8B3D-A457F4DB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ED1-E9E1-48BF-9BCB-3A7D186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5A3-D560-4739-930D-D4D628A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894-146F-4566-9FDC-039A423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BB8-E532-4CED-8ED3-2AB33D17C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HRINKAGE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MIPARAMETRIC DENSTIY ESTIM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ohamed Amezzi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Pau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mail: mamezzia@depaul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rinkage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80880" y="1905120"/>
                <a:ext cx="837432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: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π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t xml:space="preserve">0,1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fully known density fun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 nonparametric estimator of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Risk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533520" y="1828800"/>
                <a:ext cx="62481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-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" name="Picture 4" descr=""/>
          <p:cNvPicPr/>
          <p:nvPr/>
        </p:nvPicPr>
        <p:blipFill>
          <a:blip r:embed="rId1"/>
          <a:srcRect l="0" t="0" r="12197" b="53032"/>
          <a:stretch/>
        </p:blipFill>
        <p:spPr>
          <a:xfrm>
            <a:off x="457200" y="3809880"/>
            <a:ext cx="86868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T and SPT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932040" y="1581120"/>
                <a:ext cx="7754760" cy="500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preliminary tes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rinkage preliminar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s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stimators:</m:t>
                        </m:r>
                      </m:e>
                      <m:e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P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testing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corresponding critical 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T Dens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3551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4952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Los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04920" y="3111480"/>
                <a:ext cx="441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ing the ISE with respect to </m:t>
                    </m:r>
                    <m:r>
                      <m:t xml:space="preserve">π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28600" y="1600200"/>
                <a:ext cx="1576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ISE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6760" y="2057400"/>
            <a:ext cx="8877240" cy="8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191120" cy="156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67122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1066680" y="6172200"/>
            <a:ext cx="4977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ymptotic Optim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19320" y="3686040"/>
            <a:ext cx="495288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543800" cy="10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304920" y="2133720"/>
                <a:ext cx="8153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estimating the non-stochastic part of 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, we obtai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fully data-based estimator of </m:t>
                        </m:r>
                        <m:r>
                          <m:t xml:space="preserve">f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ymptotic Optim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886200" y="1533600"/>
            <a:ext cx="5257800" cy="4029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114800" y="5334120"/>
            <a:ext cx="525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xplots f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= 0.01, 0.1, 0.2, 0.3, 0.4,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339840" y="2209680"/>
                <a:ext cx="39956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,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</m:t>
                        </m:r>
                      </m:e>
                      <m:e>
                        <m:r>
                          <m:t xml:space="preserve">n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t xml:space="preserve">π</m:t>
                            </m:r>
                            <m:r>
                              <m:t xml:space="preserve">=</m:t>
                            </m:r>
                            <m:r>
                              <m:t xml:space="preserve">π</m:t>
                            </m:r>
                            <m:r>
                              <m:t xml:space="preserve">d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,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A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ness-Of-Fi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795240" y="1566720"/>
                <a:ext cx="7520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: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: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Δ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where       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f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ull Distribution: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Sup>
                          <m:e>
                            <m:r>
                              <m:t xml:space="preserve">A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2:06:52Z</dcterms:created>
  <dc:creator>math</dc:creator>
  <dc:description/>
  <dc:language>en-US</dc:language>
  <cp:lastModifiedBy>SmoothNoise</cp:lastModifiedBy>
  <dcterms:modified xsi:type="dcterms:W3CDTF">2009-05-15T12:01:25Z</dcterms:modified>
  <cp:revision>74</cp:revision>
  <dc:subject/>
  <dc:title>SHRINKAGE-BASED  SEMIPARAMETRIC DENSTIY ESTIMATION</dc:title>
</cp:coreProperties>
</file>