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30.gif" ContentType="image/gif"/>
  <Override PartName="/ppt/media/image22.png" ContentType="image/png"/>
  <Override PartName="/ppt/media/image21.png" ContentType="image/png"/>
  <Override PartName="/ppt/media/image27.gif" ContentType="image/gif"/>
  <Override PartName="/ppt/media/image7.png" ContentType="image/png"/>
  <Override PartName="/ppt/media/image28.gif" ContentType="image/gif"/>
  <Override PartName="/ppt/media/image8.png" ContentType="image/png"/>
  <Override PartName="/ppt/media/image13.png" ContentType="image/png"/>
  <Override PartName="/ppt/media/image29.gif" ContentType="image/gif"/>
  <Override PartName="/ppt/media/image9.png" ContentType="image/png"/>
  <Override PartName="/ppt/media/image31.gif" ContentType="image/gif"/>
  <Override PartName="/ppt/media/image14.png" ContentType="image/png"/>
  <Override PartName="/ppt/media/image11.gif" ContentType="image/gif"/>
  <Override PartName="/ppt/media/image6.png" ContentType="image/png"/>
  <Override PartName="/ppt/media/image12.png" ContentType="image/png"/>
  <Override PartName="/ppt/media/image32.gif" ContentType="image/gif"/>
  <Override PartName="/ppt/media/image10.png" ContentType="image/png"/>
  <Override PartName="/ppt/media/image5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.png" ContentType="image/png"/>
  <Override PartName="/ppt/media/image1.png" ContentType="image/png"/>
  <Override PartName="/ppt/media/image15.png" ContentType="image/png"/>
  <Override PartName="/ppt/media/image16.png" ContentType="image/png"/>
  <Override PartName="/ppt/media/image24.gif" ContentType="image/gif"/>
  <Override PartName="/ppt/media/image17.png" ContentType="image/png"/>
  <Override PartName="/ppt/media/image25.gif" ContentType="image/gif"/>
  <Override PartName="/ppt/media/image18.png" ContentType="image/png"/>
  <Override PartName="/ppt/media/image20.png" ContentType="image/png"/>
  <Override PartName="/ppt/media/image26.gif" ContentType="image/gif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D407-4A82-4F38-BFC8-5291AD1C4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BEFE-0648-4CC4-9A88-1CA86DE046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45B9-0B91-4EEB-ACE6-36CEDCD81B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E49F-3D25-4889-BE45-8D4927AA68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FB03-226D-4DFD-AB0D-3F29FB494B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C1F2-B2D7-4828-A143-87A063FF67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7C45-9414-4D85-A851-3B6DAF3D51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D47D-E3C3-4F41-839B-ECEFECC867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C0D3-3ADA-4A4C-A338-DD89BD8BAE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6AB4-8A2A-423A-A3B5-82BEF7890C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05B0-7F93-4BA0-B758-F768B0A0F7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017B-0FDA-4FA9-B200-FFCD42AE8C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92F5-718D-4C79-A47B-8ECE354292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FE88-93E1-4E68-9F1C-4E4DC903D6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740C-2514-44CF-B90A-7F1E7F27B5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503A-3509-4C89-89B0-63CD0FE250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585F-1A4A-4E9E-84C9-5A0D1C6BAD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38B5-4670-4859-8C37-363FDB22F6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F965-D739-4377-808E-1B7187928F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74EA-860D-49A5-8009-BCD832F334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850E-BD06-4F66-807B-1FAF63EEE4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4EB3-0489-4718-9910-3FAC5B89CA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6EA4-FE3C-4D14-AE3A-F85874ED93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CF3E-8589-46E3-AAAD-94C1CDDAA8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9B7A-73F3-4EB4-9ADA-6482F0CFFD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6EC9-6CE1-4FEF-B2E9-9FEEDB63C0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3715-AC6A-4E5D-97BF-7977C8E27E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1A54-3D2D-479B-ACF1-8B6FA16BBB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9B48D-C83D-4EAD-B219-61DBC638D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76A24-07C9-4918-80F6-E55E21A6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CF512-C2D7-47A1-91C1-F8FB1EE6B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26885-13F5-4D3D-B88D-7D1703DB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7206-1797-44D2-BF5A-C4347E8B0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66AF-66E9-4E17-99D6-86A2C4F6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6FC0-330E-4066-9D12-ECADDC43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0A88-2133-42FD-9ABE-876FF2D2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8CA6-D6DF-4A56-A3DE-D6B111F9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1F7E-7A93-4686-8BE9-629C5098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502B-2310-4804-999A-2863DA3D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61986-4D09-46A3-B7D2-B7F20EF4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1707-625E-4DC7-9DD1-F54E3507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99D4-C69D-4420-9B5A-D3271F65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37C7-9064-4BC6-8033-0D88B5C3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EBC6-5D1D-4E5E-81B0-8C4A0143F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D0BC-EAE9-4812-9BC2-4E64E5F01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FD1A1-EF1D-49BC-8519-EB47FED2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AB892-0C58-49E9-B9BB-7D8E585D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7BA38-0FBC-469F-9985-DA3C2AB2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35FE7-70CD-4D78-B217-E65F56CD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B4195-F29E-44FE-879E-FD2B415D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6273C-0446-470F-846A-12488106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3EB2C-2198-46DB-B0A1-04430184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AAC0-E27C-400B-A8F0-90690294EA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CA5B-C933-4E13-BE76-1C6FC836FB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8.gif"/><Relationship Id="rId6" Type="http://schemas.openxmlformats.org/officeDocument/2006/relationships/image" Target="../media/image29.gif"/><Relationship Id="rId7" Type="http://schemas.openxmlformats.org/officeDocument/2006/relationships/image" Target="../media/image30.gif"/><Relationship Id="rId8" Type="http://schemas.openxmlformats.org/officeDocument/2006/relationships/image" Target="../media/image31.gif"/><Relationship Id="rId9" Type="http://schemas.openxmlformats.org/officeDocument/2006/relationships/image" Target="../media/image3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The Mathematics of Music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SYLC Seminar: Day 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Britten.mp3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9648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enjamin Britten’s “The Young Person’s Guide to the Orchestra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do we distinguish musical instrument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do we distinguish vowels in vocal singing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timbr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BrittenClip.mp3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16963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strumental Wavefor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Picture 4" descr="TrumpetWaveform"/>
          <p:cNvPicPr/>
          <p:nvPr/>
        </p:nvPicPr>
        <p:blipFill>
          <a:blip r:embed="rId1"/>
          <a:stretch/>
        </p:blipFill>
        <p:spPr>
          <a:xfrm>
            <a:off x="457200" y="2971800"/>
            <a:ext cx="8229600" cy="1800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ViolinWaveform"/>
          <p:cNvPicPr/>
          <p:nvPr/>
        </p:nvPicPr>
        <p:blipFill>
          <a:blip r:embed="rId2"/>
          <a:stretch/>
        </p:blipFill>
        <p:spPr>
          <a:xfrm>
            <a:off x="457200" y="4800600"/>
            <a:ext cx="8229600" cy="1800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ClarinetWaveform"/>
          <p:cNvPicPr/>
          <p:nvPr/>
        </p:nvPicPr>
        <p:blipFill>
          <a:blip r:embed="rId3"/>
          <a:stretch/>
        </p:blipFill>
        <p:spPr>
          <a:xfrm>
            <a:off x="457200" y="1143000"/>
            <a:ext cx="8229600" cy="1800360"/>
          </a:xfrm>
          <a:prstGeom prst="rect">
            <a:avLst/>
          </a:prstGeom>
          <a:ln w="0">
            <a:noFill/>
          </a:ln>
        </p:spPr>
      </p:pic>
      <p:pic>
        <p:nvPicPr>
          <p:cNvPr id="140" name="Clarinet.mp3" descr=""/>
          <p:cNvPicPr/>
          <p:nvPr/>
        </p:nvPicPr>
        <p:blipFill>
          <a:blip r:embed="rId4"/>
          <a:stretch/>
        </p:blipFill>
        <p:spPr>
          <a:xfrm>
            <a:off x="8305920" y="1219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1" name="Trumpet.mp3" descr=""/>
          <p:cNvPicPr/>
          <p:nvPr/>
        </p:nvPicPr>
        <p:blipFill>
          <a:blip r:embed="rId5"/>
          <a:stretch/>
        </p:blipFill>
        <p:spPr>
          <a:xfrm>
            <a:off x="8305920" y="3048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2" name="Violin.mp3" descr=""/>
          <p:cNvPicPr/>
          <p:nvPr/>
        </p:nvPicPr>
        <p:blipFill>
          <a:blip r:embed="rId6"/>
          <a:stretch/>
        </p:blipFill>
        <p:spPr>
          <a:xfrm>
            <a:off x="8305920" y="4876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7217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27483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40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9124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emonstration - vowels in vocal singing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odes of Vibration: Vibrating String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odes of Vibration: Vibrating String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7" name="Picture 4" descr="StringModesOfVibration"/>
          <p:cNvPicPr/>
          <p:nvPr/>
        </p:nvPicPr>
        <p:blipFill>
          <a:blip r:embed="rId1"/>
          <a:stretch/>
        </p:blipFill>
        <p:spPr>
          <a:xfrm>
            <a:off x="2362320" y="1371600"/>
            <a:ext cx="4473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odes of Vibration: Tube w/ Two Open End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9" name="Picture 4" descr="OpenTubeModesOfVibration"/>
          <p:cNvPicPr/>
          <p:nvPr/>
        </p:nvPicPr>
        <p:blipFill>
          <a:blip r:embed="rId1"/>
          <a:stretch/>
        </p:blipFill>
        <p:spPr>
          <a:xfrm>
            <a:off x="2362320" y="1447920"/>
            <a:ext cx="47242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odes of Vibration: Tube w/ One Closed End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1" name="Picture 4" descr="ClosedTubeModesOfVibration"/>
          <p:cNvPicPr/>
          <p:nvPr/>
        </p:nvPicPr>
        <p:blipFill>
          <a:blip r:embed="rId1"/>
          <a:stretch/>
        </p:blipFill>
        <p:spPr>
          <a:xfrm>
            <a:off x="2362320" y="1447920"/>
            <a:ext cx="474336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sonance Harmon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y string or wind instrument produces 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undamental pitc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as well a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sonance harmon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frequencies of the resonance harmonics are integer multiples of the fundamental pit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resonance harmonic has frequency equal to n times the fundamental pit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n Unresolved Ques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y does a string (or air in a tube) have to oscillate as a combination of mod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wo-Dimensional Vecto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ition: (1,4) + (2,6) = (3,1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alar multiplication: 3×(1,4) = (3,1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sis decomposi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1,4) = 1×(1,0) + 4×(0,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2,6) = 2×(1,0) + 6×(0,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music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ree-Dimensional Vecto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ition: (1,4,3) + (2,6,8) = (3,10,1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alar multiplication: 3×(1,4,3) = (3,12,9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sis decomposi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1,4,3) = 1×(1,0,0) + 4×(0,1,0) + 3×(0,0,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2,6,8) = 2×(1,0,0) + 6×(0,1,0) + 8×(0,0,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Vector Space of Waveform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1" name="Picture 4" descr="WaveformVectorSpace"/>
          <p:cNvPicPr/>
          <p:nvPr/>
        </p:nvPicPr>
        <p:blipFill>
          <a:blip r:embed="rId1"/>
          <a:stretch/>
        </p:blipFill>
        <p:spPr>
          <a:xfrm>
            <a:off x="533520" y="1523880"/>
            <a:ext cx="802152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veform Ba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531720" y="1746360"/>
            <a:ext cx="4046760" cy="2019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2"/>
          <a:stretch/>
        </p:blipFill>
        <p:spPr>
          <a:xfrm>
            <a:off x="4789440" y="1746360"/>
            <a:ext cx="4046760" cy="2019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3"/>
          <a:stretch/>
        </p:blipFill>
        <p:spPr>
          <a:xfrm>
            <a:off x="531720" y="4114800"/>
            <a:ext cx="4046760" cy="2021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4"/>
          <a:stretch/>
        </p:blipFill>
        <p:spPr>
          <a:xfrm>
            <a:off x="4789440" y="4114800"/>
            <a:ext cx="404676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urier Decomposi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457200" y="2514600"/>
            <a:ext cx="82296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functions sin x, cos x, sin 2x, cos 2x,… are a basis for the space of waveforms with period 2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y (smooth) periodic waveform is a sum of sinusoidal “mode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nstrumental Waveform Decomposi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0" name="Picture 10" descr="ViolinWaveformDecomposition"/>
          <p:cNvPicPr/>
          <p:nvPr/>
        </p:nvPicPr>
        <p:blipFill>
          <a:blip r:embed="rId1"/>
          <a:stretch/>
        </p:blipFill>
        <p:spPr>
          <a:xfrm>
            <a:off x="4800600" y="1523880"/>
            <a:ext cx="4038480" cy="2428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ClarinetWaveformDecomposition"/>
          <p:cNvPicPr/>
          <p:nvPr/>
        </p:nvPicPr>
        <p:blipFill>
          <a:blip r:embed="rId2"/>
          <a:stretch/>
        </p:blipFill>
        <p:spPr>
          <a:xfrm>
            <a:off x="380880" y="1523880"/>
            <a:ext cx="4038840" cy="2428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TrumpetWaveformDecomposition"/>
          <p:cNvPicPr/>
          <p:nvPr/>
        </p:nvPicPr>
        <p:blipFill>
          <a:blip r:embed="rId3"/>
          <a:stretch/>
        </p:blipFill>
        <p:spPr>
          <a:xfrm>
            <a:off x="2590920" y="4114800"/>
            <a:ext cx="40384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emonstration - vowels in vocal singing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ibetan and Tuvan Overtone Singing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5" name="OvertoneSinging.wmv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" dur="1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cussion Instru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7" name="Picture 5" descr="DrumMode01"/>
          <p:cNvPicPr/>
          <p:nvPr/>
        </p:nvPicPr>
        <p:blipFill>
          <a:blip r:embed="rId1"/>
          <a:stretch/>
        </p:blipFill>
        <p:spPr>
          <a:xfrm>
            <a:off x="1371600" y="1219320"/>
            <a:ext cx="2057400" cy="1079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DrumMode02"/>
          <p:cNvPicPr/>
          <p:nvPr/>
        </p:nvPicPr>
        <p:blipFill>
          <a:blip r:embed="rId2"/>
          <a:stretch/>
        </p:blipFill>
        <p:spPr>
          <a:xfrm>
            <a:off x="3429000" y="1219320"/>
            <a:ext cx="2057400" cy="1079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DrumMode03"/>
          <p:cNvPicPr/>
          <p:nvPr/>
        </p:nvPicPr>
        <p:blipFill>
          <a:blip r:embed="rId3"/>
          <a:stretch/>
        </p:blipFill>
        <p:spPr>
          <a:xfrm>
            <a:off x="5486400" y="1219320"/>
            <a:ext cx="2057400" cy="1069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DrumMode11"/>
          <p:cNvPicPr/>
          <p:nvPr/>
        </p:nvPicPr>
        <p:blipFill>
          <a:blip r:embed="rId4"/>
          <a:stretch/>
        </p:blipFill>
        <p:spPr>
          <a:xfrm>
            <a:off x="1371600" y="2286000"/>
            <a:ext cx="2057400" cy="1077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DrumMode12"/>
          <p:cNvPicPr/>
          <p:nvPr/>
        </p:nvPicPr>
        <p:blipFill>
          <a:blip r:embed="rId5"/>
          <a:stretch/>
        </p:blipFill>
        <p:spPr>
          <a:xfrm>
            <a:off x="3429000" y="2286000"/>
            <a:ext cx="2057400" cy="10778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DrumMode13"/>
          <p:cNvPicPr/>
          <p:nvPr/>
        </p:nvPicPr>
        <p:blipFill>
          <a:blip r:embed="rId6"/>
          <a:stretch/>
        </p:blipFill>
        <p:spPr>
          <a:xfrm>
            <a:off x="5486400" y="2286000"/>
            <a:ext cx="2057400" cy="1069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DrumMode21"/>
          <p:cNvPicPr/>
          <p:nvPr/>
        </p:nvPicPr>
        <p:blipFill>
          <a:blip r:embed="rId7"/>
          <a:stretch/>
        </p:blipFill>
        <p:spPr>
          <a:xfrm>
            <a:off x="1371600" y="3352680"/>
            <a:ext cx="2057400" cy="1078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DrumMode22"/>
          <p:cNvPicPr/>
          <p:nvPr/>
        </p:nvPicPr>
        <p:blipFill>
          <a:blip r:embed="rId8"/>
          <a:stretch/>
        </p:blipFill>
        <p:spPr>
          <a:xfrm>
            <a:off x="3429000" y="3352680"/>
            <a:ext cx="2057400" cy="1078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DrumMode23"/>
          <p:cNvPicPr/>
          <p:nvPr/>
        </p:nvPicPr>
        <p:blipFill>
          <a:blip r:embed="rId9"/>
          <a:stretch/>
        </p:blipFill>
        <p:spPr>
          <a:xfrm>
            <a:off x="5486400" y="3352680"/>
            <a:ext cx="2057400" cy="10699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4"/>
          <p:cNvSpPr/>
          <p:nvPr/>
        </p:nvSpPr>
        <p:spPr>
          <a:xfrm>
            <a:off x="457200" y="44197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al idiophone (xylophone, marimba)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000, 2.758, 5.405, 8.934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al membranophone (timpani, drums): 1.000, 1.593, 2.136, 2.653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sychoacoustic Phenomen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m and difference to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ssing fundament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epard sca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4" descr="EscherStaircase"/>
          <p:cNvPicPr/>
          <p:nvPr/>
        </p:nvPicPr>
        <p:blipFill>
          <a:blip r:embed="rId1"/>
          <a:stretch/>
        </p:blipFill>
        <p:spPr>
          <a:xfrm>
            <a:off x="2590920" y="3505320"/>
            <a:ext cx="3886200" cy="2724120"/>
          </a:xfrm>
          <a:prstGeom prst="rect">
            <a:avLst/>
          </a:prstGeom>
          <a:ln w="0">
            <a:noFill/>
          </a:ln>
        </p:spPr>
      </p:pic>
      <p:pic>
        <p:nvPicPr>
          <p:cNvPr id="190" name="DifferenceTone.wav" descr=""/>
          <p:cNvPicPr/>
          <p:nvPr/>
        </p:nvPicPr>
        <p:blipFill>
          <a:blip r:embed="rId2"/>
          <a:stretch/>
        </p:blipFill>
        <p:spPr>
          <a:xfrm>
            <a:off x="5105520" y="1752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91" name="OdeToJoyMissingFundamental.wav" descr=""/>
          <p:cNvPicPr/>
          <p:nvPr/>
        </p:nvPicPr>
        <p:blipFill>
          <a:blip r:embed="rId3"/>
          <a:stretch/>
        </p:blipFill>
        <p:spPr>
          <a:xfrm>
            <a:off x="4800600" y="2286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2" name="RissetScale.au" descr=""/>
          <p:cNvPicPr/>
          <p:nvPr/>
        </p:nvPicPr>
        <p:blipFill>
          <a:blip r:embed="rId4"/>
          <a:stretch/>
        </p:blipFill>
        <p:spPr>
          <a:xfrm>
            <a:off x="358128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" name="ShepardScale.wav" descr=""/>
          <p:cNvPicPr/>
          <p:nvPr/>
        </p:nvPicPr>
        <p:blipFill>
          <a:blip r:embed="rId5"/>
          <a:stretch/>
        </p:blipFill>
        <p:spPr>
          <a:xfrm>
            <a:off x="320040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4" name="MissingFundamental.wav" descr=""/>
          <p:cNvPicPr/>
          <p:nvPr/>
        </p:nvPicPr>
        <p:blipFill>
          <a:blip r:embed="rId6"/>
          <a:stretch/>
        </p:blipFill>
        <p:spPr>
          <a:xfrm>
            <a:off x="441972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5000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2800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62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32360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30422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72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9815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. Benson.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usic: A Mathematical Offering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ambridge University Press, 2006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. M. Howard and J. A. S. Angus.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coustics and Psychoacoustics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lsevier,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d., 2009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. M. Stein and R. Shakarchi.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ourier Analysis: An Introduction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rinceton University Press, 2003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roduc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your friend’s nam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re is your friend from? What school does he/she go to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one unique fact about your frien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kind of music does your friend like to listen to? Does your friend play a musical instrument or perform in a musical group at school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und Wav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SoundWave.avi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46748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winkle, Twinkle Little Sta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Picture 4" descr="TwinkleTwinkleAMajor"/>
          <p:cNvPicPr/>
          <p:nvPr/>
        </p:nvPicPr>
        <p:blipFill>
          <a:blip r:embed="rId1"/>
          <a:stretch/>
        </p:blipFill>
        <p:spPr>
          <a:xfrm>
            <a:off x="838080" y="2590920"/>
            <a:ext cx="7543800" cy="20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vefor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4572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velength, frequen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velength × Frequency = Speed of wa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mplitu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SoundWavePicture"/>
          <p:cNvPicPr/>
          <p:nvPr/>
        </p:nvPicPr>
        <p:blipFill>
          <a:blip r:embed="rId1"/>
          <a:stretch/>
        </p:blipFill>
        <p:spPr>
          <a:xfrm>
            <a:off x="304920" y="1523880"/>
            <a:ext cx="8572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winkle, Twinkle Little Sta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Picture 3" descr="TwinkleTwinkleAMajor"/>
          <p:cNvPicPr/>
          <p:nvPr/>
        </p:nvPicPr>
        <p:blipFill>
          <a:blip r:embed="rId1"/>
          <a:stretch/>
        </p:blipFill>
        <p:spPr>
          <a:xfrm>
            <a:off x="838080" y="2590920"/>
            <a:ext cx="7543800" cy="2012760"/>
          </a:xfrm>
          <a:prstGeom prst="rect">
            <a:avLst/>
          </a:prstGeom>
          <a:ln w="0">
            <a:noFill/>
          </a:ln>
        </p:spPr>
      </p:pic>
      <p:sp>
        <p:nvSpPr>
          <p:cNvPr id="122" name="Oval 5"/>
          <p:cNvSpPr/>
          <p:nvPr/>
        </p:nvSpPr>
        <p:spPr>
          <a:xfrm>
            <a:off x="1905120" y="2819520"/>
            <a:ext cx="2286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Line 8"/>
          <p:cNvSpPr/>
          <p:nvPr/>
        </p:nvSpPr>
        <p:spPr>
          <a:xfrm flipH="1">
            <a:off x="2057040" y="2209680"/>
            <a:ext cx="1522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209680" y="19051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Pitch (Frequency): A = 440Hz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Oval 10"/>
          <p:cNvSpPr/>
          <p:nvPr/>
        </p:nvSpPr>
        <p:spPr>
          <a:xfrm>
            <a:off x="1828800" y="3200400"/>
            <a:ext cx="38088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Line 12"/>
          <p:cNvSpPr/>
          <p:nvPr/>
        </p:nvSpPr>
        <p:spPr>
          <a:xfrm flipH="1" flipV="1">
            <a:off x="2057040" y="3428640"/>
            <a:ext cx="15228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2133720" y="50292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Volume (Amplitud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Human Ea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Picture 4" descr="Ear"/>
          <p:cNvPicPr/>
          <p:nvPr/>
        </p:nvPicPr>
        <p:blipFill>
          <a:blip r:embed="rId1"/>
          <a:stretch/>
        </p:blipFill>
        <p:spPr>
          <a:xfrm>
            <a:off x="457200" y="1600200"/>
            <a:ext cx="815328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 Cochlea and Pitch Percep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Picture 5" descr="Cochlea"/>
          <p:cNvPicPr/>
          <p:nvPr/>
        </p:nvPicPr>
        <p:blipFill>
          <a:blip r:embed="rId1"/>
          <a:stretch/>
        </p:blipFill>
        <p:spPr>
          <a:xfrm>
            <a:off x="1447920" y="1752480"/>
            <a:ext cx="6230880" cy="1257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PitchVsLocation"/>
          <p:cNvPicPr/>
          <p:nvPr/>
        </p:nvPicPr>
        <p:blipFill>
          <a:blip r:embed="rId2"/>
          <a:stretch/>
        </p:blipFill>
        <p:spPr>
          <a:xfrm>
            <a:off x="304920" y="3657600"/>
            <a:ext cx="85867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1T23:34:30Z</dcterms:created>
  <dc:creator>Zhou Fan</dc:creator>
  <dc:description/>
  <dc:language>en-US</dc:language>
  <cp:lastModifiedBy>Zhou Fan</cp:lastModifiedBy>
  <dcterms:modified xsi:type="dcterms:W3CDTF">2010-08-15T12:40:03Z</dcterms:modified>
  <cp:revision>34</cp:revision>
  <dc:subject/>
  <dc:title>The Mathematics of Music</dc:title>
</cp:coreProperties>
</file>