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871-B003-431A-A884-AE5DD22C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9C11-6FB6-4C32-965A-12B5D6DAB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DD5-4B57-4498-872C-2C4EDF7FA6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334-3C3A-48FC-B830-622738484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D8C-7D08-4C87-AB5F-A4FE2B3B4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F13E-4806-4443-9CA5-57F3B7D08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5CC-7377-4D68-96D4-CD7775D42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D13-5D63-47F2-8013-0E27DBCC1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3A68-6195-4386-902C-812B8FA80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2AB-A376-4FC1-8A71-1FB305896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E2B-5274-418B-B906-BA7780C01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246C-2A83-4080-99A9-78D696981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893-7C63-40DB-A58F-8F119A981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0BE-7577-452C-A0F7-395C8F3F9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6D7-9BA3-44F9-AF72-A74CF1E81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16A-C254-43FB-9081-EA5D17624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0AF-33F8-46F0-9B75-52B75F3DF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4B1-A94F-4FC2-B681-C450F8370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C0BA-E48E-4CB4-8D12-C92E0D8ACE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065-8C64-4095-9878-D8084A83B8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A8E4-7D01-432A-A667-04AB3DAAE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F97F-7F7F-41C0-B3CC-C4471E5DF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4514-BE70-44BC-B045-2B9EB5474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10C-ABAD-4649-A094-26F259A4B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E30-1C10-4F7F-BE29-20C8CC216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4CF-4C57-4095-A93F-D948D3E30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D802-9CF5-495E-AD6F-BBD156AE92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3800-07FF-4643-95DA-29AF303F6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2A9-3893-46C3-B57F-95167BEA6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F62-4A56-421D-92D7-35104CD8F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FABA-A4FB-47E5-BC7E-82F657B38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DAE-2ACB-41FA-8602-195E193F0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39D-401F-44FD-8077-7B5374A39D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26FD-DEF6-46CC-94DE-A418B3CE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4867-B9E3-4A8E-A1C3-2BF6C465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0FEB-7060-4CC6-92F8-BFE8868A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0049-E333-405B-893D-5F97CE3B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F5DF-50C4-4864-AC48-06B27283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A1F7-5DA5-4A67-850C-B915AC68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E37B-CF61-45EB-AF91-5E3FFC4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5252-6D29-4717-B645-1B394B8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FDB9-5CDD-4831-889E-091725E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B6C-EB21-43F7-B793-85DDE203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F3C-D7E0-4348-AE78-B67AD98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B9A5-1316-4919-B1FF-997177E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471D-2725-4A3E-A2C9-376762D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A2C-BAD0-4462-9A8A-2297E1A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F0C-2C58-4275-A4BD-E384D330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BAD0-B7A4-4DBC-BEAC-5D4218C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55D-EED8-470E-8C26-6F4DAF25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3831-8F21-4902-AE14-2D64EA9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BECA-F35F-414A-A17F-CE2DD90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DE67-3711-4015-A35B-28E7F8D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E400-B8C5-4F61-932F-F0BE837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0080-EE3D-4B0D-88C7-F2AC975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B831-95FF-4813-8113-9A4B27A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ADE1-EBF1-4892-BDA5-4F9FC2F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0792-9B1D-46F9-9AE1-6271CAC4A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3762-79CB-47EA-A468-900956235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Mathematics of Music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SYLC Seminar: Day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FeuxDArtifice.mp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4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ord Progressions as Transformations of Chor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13" descr="BeethovenFirstOpening"/>
          <p:cNvPicPr/>
          <p:nvPr/>
        </p:nvPicPr>
        <p:blipFill>
          <a:blip r:embed="rId1"/>
          <a:stretch/>
        </p:blipFill>
        <p:spPr>
          <a:xfrm>
            <a:off x="2133720" y="1752480"/>
            <a:ext cx="4800600" cy="1665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914400" y="3352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ethoven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ymphony No.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First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5" descr="BeethovenFirstMovementThree"/>
          <p:cNvPicPr/>
          <p:nvPr/>
        </p:nvPicPr>
        <p:blipFill>
          <a:blip r:embed="rId2"/>
          <a:stretch/>
        </p:blipFill>
        <p:spPr>
          <a:xfrm>
            <a:off x="2209680" y="4191120"/>
            <a:ext cx="4648320" cy="1593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6"/>
          <p:cNvSpPr/>
          <p:nvPr/>
        </p:nvSpPr>
        <p:spPr>
          <a:xfrm>
            <a:off x="914400" y="571500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ethoven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ymphony No.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ird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BeethovenFirstMovement.mp3" descr=""/>
          <p:cNvPicPr/>
          <p:nvPr/>
        </p:nvPicPr>
        <p:blipFill>
          <a:blip r:embed="rId3"/>
          <a:stretch/>
        </p:blipFill>
        <p:spPr>
          <a:xfrm>
            <a:off x="70866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BeethovenThirdMovement.mp3" descr=""/>
          <p:cNvPicPr/>
          <p:nvPr/>
        </p:nvPicPr>
        <p:blipFill>
          <a:blip r:embed="rId4"/>
          <a:stretch/>
        </p:blipFill>
        <p:spPr>
          <a:xfrm>
            <a:off x="70102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41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873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formations Between Major and Minor Tria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 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major → G maj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major → C maj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minor → G mi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minor → C mi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 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major → A mi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major → D mi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 minor → C maj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inor → F maj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yclic Group C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24382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DO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{MED} generates the cyclic group of order 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ethoven’s Transformation Network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BeethovenFirstOpeningNetwork"/>
          <p:cNvPicPr/>
          <p:nvPr/>
        </p:nvPicPr>
        <p:blipFill>
          <a:blip r:embed="rId1"/>
          <a:stretch/>
        </p:blipFill>
        <p:spPr>
          <a:xfrm>
            <a:off x="1143000" y="1752480"/>
            <a:ext cx="6878520" cy="163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BeethovenFirstMovementThreeNetwork"/>
          <p:cNvPicPr/>
          <p:nvPr/>
        </p:nvPicPr>
        <p:blipFill>
          <a:blip r:embed="rId2"/>
          <a:stretch/>
        </p:blipFill>
        <p:spPr>
          <a:xfrm>
            <a:off x="1143000" y="4191120"/>
            <a:ext cx="6858000" cy="147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914400" y="3352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ethoven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ymphony No.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First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14400" y="571500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ethoven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ymphony No.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ird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BeethovenFirstMovement.mp3" descr=""/>
          <p:cNvPicPr/>
          <p:nvPr/>
        </p:nvPicPr>
        <p:blipFill>
          <a:blip r:embed="rId3"/>
          <a:stretch/>
        </p:blipFill>
        <p:spPr>
          <a:xfrm>
            <a:off x="80773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BeethovenThirdMovement.mp3" descr=""/>
          <p:cNvPicPr/>
          <p:nvPr/>
        </p:nvPicPr>
        <p:blipFill>
          <a:blip r:embed="rId4"/>
          <a:stretch/>
        </p:blipFill>
        <p:spPr>
          <a:xfrm>
            <a:off x="8077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041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737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positions and Retrograde Invers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ParsifalActOneTonicSequence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1527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e of local tonics from Wagner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arsif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arsifalLocalTonics.mp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3821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positions and Retrograde Invers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– Transposition of melody upwards by a half-st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 – Melody backwards and upside-down, starting at the second-to-last no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ZauberMotifRetrogradeInversion"/>
          <p:cNvPicPr/>
          <p:nvPr/>
        </p:nvPicPr>
        <p:blipFill>
          <a:blip r:embed="rId1"/>
          <a:stretch/>
        </p:blipFill>
        <p:spPr>
          <a:xfrm>
            <a:off x="5410080" y="4724280"/>
            <a:ext cx="2819520" cy="70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ZauberMotif"/>
          <p:cNvPicPr/>
          <p:nvPr/>
        </p:nvPicPr>
        <p:blipFill>
          <a:blip r:embed="rId2"/>
          <a:stretch/>
        </p:blipFill>
        <p:spPr>
          <a:xfrm>
            <a:off x="838080" y="4724280"/>
            <a:ext cx="2971800" cy="722520"/>
          </a:xfrm>
          <a:prstGeom prst="rect">
            <a:avLst/>
          </a:prstGeom>
          <a:ln w="0">
            <a:noFill/>
          </a:ln>
        </p:spPr>
      </p:pic>
      <p:sp>
        <p:nvSpPr>
          <p:cNvPr id="159" name="Line 6"/>
          <p:cNvSpPr/>
          <p:nvPr/>
        </p:nvSpPr>
        <p:spPr>
          <a:xfrm>
            <a:off x="4038480" y="5181480"/>
            <a:ext cx="121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419720" y="4800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positions and Retrograde Invers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e of local tonics from Wagner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arsif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ParsifalActOneTonicSequenceNetwork"/>
          <p:cNvPicPr/>
          <p:nvPr/>
        </p:nvPicPr>
        <p:blipFill>
          <a:blip r:embed="rId1"/>
          <a:stretch/>
        </p:blipFill>
        <p:spPr>
          <a:xfrm>
            <a:off x="2286000" y="1523880"/>
            <a:ext cx="4572000" cy="2816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, R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 ∙ RI = RI ∙ 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elian group of order 24, generated by {RI, T}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positions and Retrograde Invers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43430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ody from Bach’s Two-Part I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6" descr="BachInventionMelodyNetwork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60948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, R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 ∙ RI = RI ∙ 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elian group of order 14, generated by {RI, T}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bussy’s 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Feux d’artifi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20574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large-scale structure of this piec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hear any repeating motifs or harmoni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hear any transposition and inversion symmetri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is this music different from Bach, Mozart, or Beethov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FeuxDArtifice.mp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524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bussy’s 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Feux d’artifi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– Inversion about G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 – Inversion about G or 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 – Inversion about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– Transposition upwards by half-st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∙ K = J ∙ I = 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∙ I = I ∙ J = 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= I ∙ T, J = T ∙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thematics of Musical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Lewin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eneralized Musical Intervals and Transformatio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98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mitri Tymoczko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Geometry of Music: Harmony and Counterpoint in the Extended Common Pract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2010 (prepri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Pitch Class Circ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Picture 4" descr="PitchClassCircle"/>
          <p:cNvPicPr/>
          <p:nvPr/>
        </p:nvPicPr>
        <p:blipFill>
          <a:blip r:embed="rId1"/>
          <a:stretch/>
        </p:blipFill>
        <p:spPr>
          <a:xfrm>
            <a:off x="2514600" y="1752480"/>
            <a:ext cx="40132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Pitch Class Circ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4" descr="PitchClassLineToCircle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vals on a Tor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Picture 4" descr="PitchClassSquareToTorus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3186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52280" y="5257800"/>
            <a:ext cx="8839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ce of ordered n-note chords is the n-dimensional torus 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ndamental Domain of Unordered Interv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5" descr="UnorderedIntervalDomain"/>
          <p:cNvPicPr/>
          <p:nvPr/>
        </p:nvPicPr>
        <p:blipFill>
          <a:blip r:embed="rId1"/>
          <a:stretch/>
        </p:blipFill>
        <p:spPr>
          <a:xfrm>
            <a:off x="533520" y="2438280"/>
            <a:ext cx="2838240" cy="2733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MobiusDomain"/>
          <p:cNvPicPr/>
          <p:nvPr/>
        </p:nvPicPr>
        <p:blipFill>
          <a:blip r:embed="rId2"/>
          <a:stretch/>
        </p:blipFill>
        <p:spPr>
          <a:xfrm>
            <a:off x="4572000" y="2057400"/>
            <a:ext cx="4095720" cy="3371760"/>
          </a:xfrm>
          <a:prstGeom prst="rect">
            <a:avLst/>
          </a:prstGeom>
          <a:ln w="0">
            <a:noFill/>
          </a:ln>
        </p:spPr>
      </p:pic>
      <p:sp>
        <p:nvSpPr>
          <p:cNvPr id="185" name="Line 7"/>
          <p:cNvSpPr/>
          <p:nvPr/>
        </p:nvSpPr>
        <p:spPr>
          <a:xfrm>
            <a:off x="3505320" y="3886200"/>
            <a:ext cx="914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nordered Intervals on a Möbius Str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Picture 5" descr="MobiusStrip"/>
          <p:cNvPicPr/>
          <p:nvPr/>
        </p:nvPicPr>
        <p:blipFill>
          <a:blip r:embed="rId1"/>
          <a:stretch/>
        </p:blipFill>
        <p:spPr>
          <a:xfrm>
            <a:off x="609480" y="2209680"/>
            <a:ext cx="7925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ndamental Domain of Unordered Tria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Picture 4" descr="ThreePitchTriangle"/>
          <p:cNvPicPr/>
          <p:nvPr/>
        </p:nvPicPr>
        <p:blipFill>
          <a:blip r:embed="rId1"/>
          <a:stretch/>
        </p:blipFill>
        <p:spPr>
          <a:xfrm>
            <a:off x="762120" y="2286000"/>
            <a:ext cx="3419280" cy="291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ThreePitchPrism"/>
          <p:cNvPicPr/>
          <p:nvPr/>
        </p:nvPicPr>
        <p:blipFill>
          <a:blip r:embed="rId2"/>
          <a:stretch/>
        </p:blipFill>
        <p:spPr>
          <a:xfrm>
            <a:off x="5105520" y="182880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nordered Triads on an Orbifo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4" descr="Orbifold"/>
          <p:cNvPicPr/>
          <p:nvPr/>
        </p:nvPicPr>
        <p:blipFill>
          <a:blip r:embed="rId1"/>
          <a:stretch/>
        </p:blipFill>
        <p:spPr>
          <a:xfrm>
            <a:off x="2895480" y="1219320"/>
            <a:ext cx="3376800" cy="365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85800" y="52578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ce of unordered n-note chords is the orbifold 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romatic Chord Progression Lat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Picture 5" descr="TwoNoteLatticeChain"/>
          <p:cNvPicPr/>
          <p:nvPr/>
        </p:nvPicPr>
        <p:blipFill>
          <a:blip r:embed="rId1"/>
          <a:stretch/>
        </p:blipFill>
        <p:spPr>
          <a:xfrm>
            <a:off x="1295280" y="2895480"/>
            <a:ext cx="65343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romatic Chord Progression Lat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4" descr="ThreeNoteLatticeChain"/>
          <p:cNvPicPr/>
          <p:nvPr/>
        </p:nvPicPr>
        <p:blipFill>
          <a:blip r:embed="rId1"/>
          <a:stretch/>
        </p:blipFill>
        <p:spPr>
          <a:xfrm>
            <a:off x="2590920" y="1676520"/>
            <a:ext cx="3835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romatic Chord Progression Lat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Picture 4" descr="FourNoteLatticeChain"/>
          <p:cNvPicPr/>
          <p:nvPr/>
        </p:nvPicPr>
        <p:blipFill>
          <a:blip r:embed="rId1"/>
          <a:stretch/>
        </p:blipFill>
        <p:spPr>
          <a:xfrm>
            <a:off x="3200400" y="1600200"/>
            <a:ext cx="26575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 to Think Ab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s the language of mathematics clarify musical ideas or obscure th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s mathematics provide any novel insights to musical analysi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of musical structure can be modeled mathematicall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opin’s Tesserac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ChopinPrelude.wmv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0562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o what extent can mathematics be used to understand music? Where does it fall short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. Artin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lgebra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ddison-Wesley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ed., 201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. S. Dummit and R. S. Foote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bstract Algebra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hn Wiley and Sons,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ed., 200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. Lewin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eneralized Musical Intervals and Transformations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ale University Press, 198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. Lewin. A transformational basis for form and prolongation in Debussy's “Feux d’artifice”.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usical Form and Transformation: Four Analytic Essays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ale University Press, 199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. Munkres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opology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rentice Hall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ed.,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. Tymoczko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Geometry of Music: Harmony and Counterpoint in the Extended Common Practice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10 (preprint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h’s Two-Part Inven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BachInventionMelody"/>
          <p:cNvPicPr/>
          <p:nvPr/>
        </p:nvPicPr>
        <p:blipFill>
          <a:blip r:embed="rId1"/>
          <a:stretch/>
        </p:blipFill>
        <p:spPr>
          <a:xfrm>
            <a:off x="1219320" y="2971800"/>
            <a:ext cx="6705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Pitch Class Dodecag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4" descr="PitchClassDodecagon"/>
          <p:cNvPicPr/>
          <p:nvPr/>
        </p:nvPicPr>
        <p:blipFill>
          <a:blip r:embed="rId1"/>
          <a:stretch/>
        </p:blipFill>
        <p:spPr>
          <a:xfrm>
            <a:off x="3048120" y="1523880"/>
            <a:ext cx="317808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 – clockwise rotation by 30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– reflection about C-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♯ 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roup of Symmetry Transform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3" descr="PitchClassDodecagon"/>
          <p:cNvPicPr/>
          <p:nvPr/>
        </p:nvPicPr>
        <p:blipFill>
          <a:blip r:embed="rId1"/>
          <a:stretch/>
        </p:blipFill>
        <p:spPr>
          <a:xfrm>
            <a:off x="3048120" y="1523880"/>
            <a:ext cx="3178080" cy="31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 ∙ x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clockwise rotation by 60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∙ x – reflection about dotted 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hedral Group D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1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3" descr="PitchClassDodecagon"/>
          <p:cNvPicPr/>
          <p:nvPr/>
        </p:nvPicPr>
        <p:blipFill>
          <a:blip r:embed="rId1"/>
          <a:stretch/>
        </p:blipFill>
        <p:spPr>
          <a:xfrm>
            <a:off x="3048120" y="1523880"/>
            <a:ext cx="3178080" cy="319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4 elements – 12 rotations and 12 refl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{x, y} ar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enera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, 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, y ∙ x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∙ y ar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vals as Transformations of Pitch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6" descr="ZauberMotif"/>
          <p:cNvPicPr/>
          <p:nvPr/>
        </p:nvPicPr>
        <p:blipFill>
          <a:blip r:embed="rId1"/>
          <a:stretch/>
        </p:blipFill>
        <p:spPr>
          <a:xfrm>
            <a:off x="1676520" y="2438280"/>
            <a:ext cx="5943600" cy="1443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324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uber motif” from Wagner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arsif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ZauberMotif.mp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200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vals of Local T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7" descr="ParsifalPreludeProgression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28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33720" y="52574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lude from Wagner’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arsif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arsifalPrelude.mp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625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34:30Z</dcterms:created>
  <dc:creator>Zhou Fan</dc:creator>
  <dc:description/>
  <dc:language>en-US</dc:language>
  <cp:lastModifiedBy>Zhou Fan</cp:lastModifiedBy>
  <dcterms:modified xsi:type="dcterms:W3CDTF">2010-08-17T17:41:56Z</dcterms:modified>
  <cp:revision>79</cp:revision>
  <dc:subject/>
  <dc:title>The Mathematics of Music</dc:title>
</cp:coreProperties>
</file>