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581-7C88-40BD-A881-686C66DF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2DF-8A76-48FE-9728-71A404835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10F-E8E1-4163-9EF3-F71034FCB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DE46-8725-43D0-B911-7AA01455AE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74E4-A0B9-4A52-B09C-8E71B8D24C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B27-C70E-4A86-97B9-58488A3BA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8EC-4DC4-41F3-A1D9-B01FBB2D7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3FE9-7F8F-4AFA-B54F-5414706535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B06B-B2CA-49AB-8682-0F914589A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2479-3011-4517-B042-32ADC630C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18A6-E740-4E40-8506-EFF54CD56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73AA-8034-4574-8343-24C40098A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83A-A912-4698-BD15-9B5CEC22A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9D9-B1AF-48BC-A626-B68508BA7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936E-6CD5-41B5-9FE0-F7F8BC1000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315-77B6-40F4-B898-7D8E2D106A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5AB-448E-47DF-A0A3-309259CE1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16E-F06B-4393-B026-B03C62A92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80CF-8A4A-4751-8DF7-83476A29F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149-4A1B-40B8-A7B6-4689590AB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7BE-7459-4EDF-9BDC-F2D0529B82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2D35-1E97-4790-B43C-6FAA5ECE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7527-2779-4F1F-B27D-7049AAF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09B2-2626-4E7E-B62B-B9972E7A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CD0D-E609-459B-869B-46BDEC28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2127-3464-4EDA-B638-AEC09210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AE77-5248-4C5F-B564-C69DAAFA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C56-5E89-4DA1-911D-D2F591D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0A7-013A-4E39-8FA6-72CF824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D06-FA08-4224-9F04-2C06F2E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9E1D-E9C1-4198-9D21-89D9E02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C59C-25BE-4200-B91C-0E1CD55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8FCB-8097-4DD6-87FC-C057BE3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733D-FEF5-43CF-9056-0E54169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68B-E746-497A-A548-EE584EB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9478-1EBF-4801-BD88-479D5600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DFD-3E5C-44CE-BEC3-4943A35A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142A-DAD3-4F65-B4F4-896DB7A6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DA91-1F95-4970-BAB7-E36F786F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FE28-9E16-4FCE-B3E9-747C7D0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D9AF-2A16-4951-938B-8540816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97A8-C582-4CAB-B267-54B3650E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6D71-664F-44AF-93AF-1A6F534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4ABB-7677-4A1E-B154-6FB2983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1D2B-4EB1-41EE-95B9-E6EF71A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0EDF-C79D-4798-B507-5C516194D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9F9-B476-45F2-9EAA-5745A9F7C5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Mathematics of Music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SYLC Seminar: Day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Gamelan.mp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700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bert Bosanquet’s “Generalized Keyboard Harmonium”, 187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ContinuedFractionApproximation"/>
          <p:cNvPicPr/>
          <p:nvPr/>
        </p:nvPicPr>
        <p:blipFill>
          <a:blip r:embed="rId1"/>
          <a:stretch/>
        </p:blipFill>
        <p:spPr>
          <a:xfrm>
            <a:off x="3124080" y="5410080"/>
            <a:ext cx="2895840" cy="91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GeneralizedKeyboardHarmonium"/>
          <p:cNvPicPr/>
          <p:nvPr/>
        </p:nvPicPr>
        <p:blipFill>
          <a:blip r:embed="rId2"/>
          <a:stretch/>
        </p:blipFill>
        <p:spPr>
          <a:xfrm>
            <a:off x="2819520" y="1523880"/>
            <a:ext cx="3495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ythagorean Tu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7" descr="PythagoreanTuning"/>
          <p:cNvPicPr/>
          <p:nvPr/>
        </p:nvPicPr>
        <p:blipFill>
          <a:blip r:embed="rId1"/>
          <a:stretch/>
        </p:blipFill>
        <p:spPr>
          <a:xfrm>
            <a:off x="1905120" y="2514600"/>
            <a:ext cx="5333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 Major Just Inton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onic comma = 81/80 = 1.01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 major I, IV, and V triads – 4:5: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JustTuning"/>
          <p:cNvPicPr/>
          <p:nvPr/>
        </p:nvPicPr>
        <p:blipFill>
          <a:blip r:embed="rId1"/>
          <a:stretch/>
        </p:blipFill>
        <p:spPr>
          <a:xfrm>
            <a:off x="1905120" y="1905120"/>
            <a:ext cx="5333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Just Intonation Lat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10" descr="PythagoreanLattice"/>
          <p:cNvPicPr/>
          <p:nvPr/>
        </p:nvPicPr>
        <p:blipFill>
          <a:blip r:embed="rId1"/>
          <a:stretch/>
        </p:blipFill>
        <p:spPr>
          <a:xfrm>
            <a:off x="1143000" y="1905120"/>
            <a:ext cx="7010280" cy="52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JustLattice"/>
          <p:cNvPicPr/>
          <p:nvPr/>
        </p:nvPicPr>
        <p:blipFill>
          <a:blip r:embed="rId2"/>
          <a:stretch/>
        </p:blipFill>
        <p:spPr>
          <a:xfrm>
            <a:off x="1981080" y="2895480"/>
            <a:ext cx="53341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Just Intonation Lat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JustFundamentalDomain"/>
          <p:cNvPicPr/>
          <p:nvPr/>
        </p:nvPicPr>
        <p:blipFill>
          <a:blip r:embed="rId1"/>
          <a:stretch/>
        </p:blipFill>
        <p:spPr>
          <a:xfrm>
            <a:off x="2819520" y="2133720"/>
            <a:ext cx="37335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wo Problems with Just Inton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onic drif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 specific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SyntonicDrift.mp3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TuneCMajorJust.mp3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TuneCSharpMajorJust.mp3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JustIntonationCircleOfFifths.mp3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350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4065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057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832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antone and Irregular Tempera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Christian Schubart'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deen zu einer Aesthetik der Tonkun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1806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major: Completely pure. Its character is innocence, simplicity, naïvety, children's tal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 major: The key of triumph, of Hallejuahs, of war-cries, of victory-rejoicing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major: Anger, rage, jealousy, fury, despair and every burden of the heart lies in its sphe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al Tempera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half step has pitch ratio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1/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r 100 c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ythagorean comma = 23.46 c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tonic comma = 21.51 c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3352680"/>
          <a:ext cx="6299280" cy="2925720"/>
        </p:xfrm>
        <a:graphic>
          <a:graphicData uri="http://schemas.openxmlformats.org/drawingml/2006/table">
            <a:tbl>
              <a:tblPr/>
              <a:tblGrid>
                <a:gridCol w="533520"/>
                <a:gridCol w="1981080"/>
                <a:gridCol w="2209680"/>
                <a:gridCol w="157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qual tempera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 Major Pythagor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 Major Ju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3.9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3.9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7.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6.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98.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98.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1.9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1.9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5.8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4.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9.7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88.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onesian Game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Picture 4" descr="Saron"/>
          <p:cNvPicPr/>
          <p:nvPr/>
        </p:nvPicPr>
        <p:blipFill>
          <a:blip r:embed="rId1"/>
          <a:stretch/>
        </p:blipFill>
        <p:spPr>
          <a:xfrm>
            <a:off x="3276720" y="4800600"/>
            <a:ext cx="2895480" cy="1249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nang"/>
          <p:cNvPicPr/>
          <p:nvPr/>
        </p:nvPicPr>
        <p:blipFill>
          <a:blip r:embed="rId2"/>
          <a:stretch/>
        </p:blipFill>
        <p:spPr>
          <a:xfrm>
            <a:off x="6629400" y="42670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Gender"/>
          <p:cNvPicPr/>
          <p:nvPr/>
        </p:nvPicPr>
        <p:blipFill>
          <a:blip r:embed="rId3"/>
          <a:stretch/>
        </p:blipFill>
        <p:spPr>
          <a:xfrm>
            <a:off x="380880" y="4191120"/>
            <a:ext cx="2362320" cy="150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Gong"/>
          <p:cNvPicPr/>
          <p:nvPr/>
        </p:nvPicPr>
        <p:blipFill>
          <a:blip r:embed="rId4"/>
          <a:stretch/>
        </p:blipFill>
        <p:spPr>
          <a:xfrm>
            <a:off x="5486400" y="1600200"/>
            <a:ext cx="2666880" cy="1698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Kendang"/>
          <p:cNvPicPr/>
          <p:nvPr/>
        </p:nvPicPr>
        <p:blipFill>
          <a:blip r:embed="rId5"/>
          <a:stretch/>
        </p:blipFill>
        <p:spPr>
          <a:xfrm>
            <a:off x="838080" y="1600200"/>
            <a:ext cx="3276720" cy="166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057400" y="3276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end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34340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r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990720" y="5715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end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315200" y="5867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n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6477120" y="3276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o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onesian Game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-note slendro scale as minimal dissonance between bonang and a harmonic instr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-note pelog scale as minimal dissonance between saron and a harmonic instr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Gamelan.wmv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inkle, Twinkle Little St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3" descr="TwinkleTwinkleAMajor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. Benson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usic: A Mathematical Offering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mbridge University Press, 200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. H. Hardy and E. M. Wright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 Introduction to the Theory of Number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xford University Press,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d., 198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 Plomp and J. M. Levelt. Tonal consonance and critical bandwidth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ournal of the Acoustical Society of Americ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38: 548-560, 196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. A. Sethares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uning, Timbre, Spectrum, Scal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pringer-Verlag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d., 200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ssonance of Intervals – A Surve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omp-Levelt Cur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PlompLeveltCurve"/>
          <p:cNvPicPr/>
          <p:nvPr/>
        </p:nvPicPr>
        <p:blipFill>
          <a:blip r:embed="rId1"/>
          <a:stretch/>
        </p:blipFill>
        <p:spPr>
          <a:xfrm>
            <a:off x="1371600" y="2133720"/>
            <a:ext cx="65530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ssonance Caused by Resonance Harmoni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Tritones.avi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681520" cy="3787920"/>
          </a:xfrm>
          <a:prstGeom prst="rect">
            <a:avLst/>
          </a:prstGeom>
          <a:ln w="0">
            <a:noFill/>
          </a:ln>
        </p:spPr>
      </p:pic>
      <p:pic>
        <p:nvPicPr>
          <p:cNvPr id="117" name="SimpleTune1.mp3" descr=""/>
          <p:cNvPicPr/>
          <p:nvPr/>
        </p:nvPicPr>
        <p:blipFill>
          <a:blip r:embed="rId2"/>
          <a:stretch/>
        </p:blipFill>
        <p:spPr>
          <a:xfrm>
            <a:off x="22860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SimpleTune2.mp3" descr=""/>
          <p:cNvPicPr/>
          <p:nvPr/>
        </p:nvPicPr>
        <p:blipFill>
          <a:blip r:embed="rId3"/>
          <a:stretch/>
        </p:blipFill>
        <p:spPr>
          <a:xfrm>
            <a:off x="36576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SimpleTune3.mp3" descr=""/>
          <p:cNvPicPr/>
          <p:nvPr/>
        </p:nvPicPr>
        <p:blipFill>
          <a:blip r:embed="rId4"/>
          <a:stretch/>
        </p:blipFill>
        <p:spPr>
          <a:xfrm>
            <a:off x="51814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SimpleTune4.mp3" descr=""/>
          <p:cNvPicPr/>
          <p:nvPr/>
        </p:nvPicPr>
        <p:blipFill>
          <a:blip r:embed="rId5"/>
          <a:stretch/>
        </p:blipFill>
        <p:spPr>
          <a:xfrm>
            <a:off x="64771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24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671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671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72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sonance of Harmonic Sou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8" descr="PlompLeveltDerivedDissonanceCurve"/>
          <p:cNvPicPr/>
          <p:nvPr/>
        </p:nvPicPr>
        <p:blipFill>
          <a:blip r:embed="rId1"/>
          <a:stretch/>
        </p:blipFill>
        <p:spPr>
          <a:xfrm>
            <a:off x="2743200" y="1371600"/>
            <a:ext cx="3981600" cy="3486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457200" y="5029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son – 1:1, octave – 2:1, fifth – 3:2, fourth – 4:3, major sixth – 5:3, minor third – 6:5, major third – 5: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w can we choose the pitches for a pian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ircle of Fifths…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, 3/2, 9/8, 27/16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, 1.5, 1.125, 1.688, 1.266, 1.898, 1.424, 1.068, 1.602, 1.201, 1.802, 1.352, 1.014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ythagorean comma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.0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CircleOfFifths"/>
          <p:cNvPicPr/>
          <p:nvPr/>
        </p:nvPicPr>
        <p:blipFill>
          <a:blip r:embed="rId1"/>
          <a:stretch/>
        </p:blipFill>
        <p:spPr>
          <a:xfrm>
            <a:off x="3352680" y="1523880"/>
            <a:ext cx="234468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piralOfFifths"/>
          <p:cNvPicPr/>
          <p:nvPr/>
        </p:nvPicPr>
        <p:blipFill>
          <a:blip r:embed="rId2"/>
          <a:stretch/>
        </p:blipFill>
        <p:spPr>
          <a:xfrm>
            <a:off x="1676520" y="1523880"/>
            <a:ext cx="5715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inued Fra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15" descr="ContinuedFractionExpansion"/>
          <p:cNvPicPr/>
          <p:nvPr/>
        </p:nvPicPr>
        <p:blipFill>
          <a:blip r:embed="rId1"/>
          <a:stretch/>
        </p:blipFill>
        <p:spPr>
          <a:xfrm>
            <a:off x="2133720" y="2286000"/>
            <a:ext cx="4876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34:30Z</dcterms:created>
  <dc:creator>Zhou Fan</dc:creator>
  <dc:description/>
  <dc:language>en-US</dc:language>
  <cp:lastModifiedBy>Zhou Fan</cp:lastModifiedBy>
  <dcterms:modified xsi:type="dcterms:W3CDTF">2010-08-16T15:53:25Z</dcterms:modified>
  <cp:revision>43</cp:revision>
  <dc:subject/>
  <dc:title>The Mathematics of Music</dc:title>
</cp:coreProperties>
</file>